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_rels/slide2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88C583-E37D-4FC8-A040-5FE1805461EF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3677B7-D57E-41B5-B5EA-1210983E7D4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1F700A-5CE5-4D2E-BA7C-4E56BADA711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0024E9-380F-4E59-A757-100535D3871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AD4E0E4-D0AD-43A8-B8B7-CCDBA90E210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329CF07-948D-4260-BE9D-6D1B261E66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5E54F2-3181-490A-A544-E2855A200AF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B025BCF-11F1-42DD-BA72-C844917E5CC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33CDDB-3148-46CE-BEDC-6973356682C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872DD23-4A8A-4E3F-8AB9-09E44709F1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0CC0D1-4272-4AE4-A688-04A51343C5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91341B-2CFE-4ECE-A748-EA4E2084A04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5958B1-A576-4707-867D-A0EC5682B52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B308542-0FF4-4499-97C6-1B6407325F3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5E0AADE-5A2B-4E5B-AC18-D6CF040744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E27C531-C2D7-4512-A689-ABD0B23D108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9FF761D-0B9E-4CE8-BEF3-AC675284176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7835E-9D79-4A5C-BC33-FBA35ADD833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E01D66-6DFE-45F9-A0C5-734DB0B3180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A45449-1839-493D-B006-3CCDF04C96B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C9F443-72A8-4497-BCAD-0AA7C171C1E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E3786E-67A3-4F21-8095-7B0C717C82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8F1749-0FD9-4CCD-AB26-07B97F1205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EA85EA-DA4B-43C9-AE7F-E4A972115A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091AB88-0232-45EC-93B1-27263D3F7EF0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F8B0BA-7AD6-4560-9AB8-836D9F06DF6E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returned when schema.getElementDeclarations() is called – an animation in 3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schemas that use &lt;include&gt; and &lt;import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 ED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5335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These schema documents are equivalent to the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990360" y="1066320"/>
            <a:ext cx="784836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“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nclude schemaLocation=“s3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import namespace=“t2” schemaLocation=“s2.xsd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2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2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2e1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3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000000"/>
                </a:solidFill>
                <a:latin typeface="Arial"/>
              </a:rPr>
              <a:t>s3.xsd: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chema targetNamespace=“t1” xmlns:xs=“http://www.w3.org/2001/XMLSchema”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  </a:t>
            </a: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“t1e2” type=“xs:string”/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3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chema&gt;</a:t>
            </a:r>
            <a:endParaRPr b="1" lang="en-US" sz="1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496880" y="4689360"/>
            <a:ext cx="766188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fetched, in response to schema.getElementDeclarations()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1523880" y="609480"/>
            <a:ext cx="38862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components in memory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21720" y="5486400"/>
            <a:ext cx="352908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returned as an EList…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9" end="9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4" fill="hold">
                            <p:stCondLst>
                              <p:cond delay="10000"/>
                            </p:stCondLst>
                            <p:childTnLst>
                              <p:par>
                                <p:cTn id="7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7" dur="1000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8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1" end="1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0" fill="hold">
                            <p:stCondLst>
                              <p:cond delay="11000"/>
                            </p:stCondLst>
                            <p:childTnLst>
                              <p:par>
                                <p:cTn id="8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3" dur="1000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84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5" dur="1000" fill="hold"/>
                                        <p:tgtEl>
                                          <p:spTgt spid="171">
                                            <p:txEl>
                                              <p:pRg st="12" end="1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6" fill="hold">
                            <p:stCondLst>
                              <p:cond delay="12000"/>
                            </p:stCondLst>
                            <p:childTnLst>
                              <p:par>
                                <p:cTn id="8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89" dur="1000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0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1" dur="1000" fill="hold"/>
                                        <p:tgtEl>
                                          <p:spTgt spid="171">
                                            <p:txEl>
                                              <p:pRg st="13" end="1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2" fill="hold">
                            <p:stCondLst>
                              <p:cond delay="13000"/>
                            </p:stCondLst>
                            <p:childTnLst>
                              <p:par>
                                <p:cTn id="9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95" dur="1000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96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97" dur="1000" fill="hold"/>
                                        <p:tgtEl>
                                          <p:spTgt spid="171">
                                            <p:txEl>
                                              <p:pRg st="14" end="1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8" fill="hold">
                            <p:stCondLst>
                              <p:cond delay="14000"/>
                            </p:stCondLst>
                            <p:childTnLst>
                              <p:par>
                                <p:cTn id="9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01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2" fill="hold">
                            <p:stCondLst>
                              <p:cond delay="16000"/>
                            </p:stCondLst>
                            <p:childTnLst>
                              <p:par>
                                <p:cTn id="103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05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6" fill="hold">
                            <p:stCondLst>
                              <p:cond delay="18000"/>
                            </p:stCondLst>
                            <p:childTnLst>
                              <p:par>
                                <p:cTn id="1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5029200" y="49528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0" name="PlaceHolder 2"/>
          <p:cNvSpPr>
            <a:spLocks noGrp="1"/>
          </p:cNvSpPr>
          <p:nvPr>
            <p:ph/>
          </p:nvPr>
        </p:nvSpPr>
        <p:spPr>
          <a:xfrm>
            <a:off x="2971440" y="1599840"/>
            <a:ext cx="366876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e calling method has -- in a variable -- a pointer to the first XSDSchema shown on the left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It uses this to get a collection of all the Element Declarations that are part of that schema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09" dur="indefinite" restart="never" nodeType="tmRoot">
          <p:childTnLst>
            <p:seq>
              <p:cTn id="110" dur="indefinite" nodeType="mainSeq">
                <p:childTnLst>
                  <p:par>
                    <p:cTn id="111" fill="hold">
                      <p:stCondLst>
                        <p:cond delay="0"/>
                      </p:stCondLst>
                      <p:childTnLst>
                        <p:par>
                          <p:cTn id="112" fill="hold">
                            <p:stCondLst>
                              <p:cond delay="0"/>
                            </p:stCondLst>
                            <p:childTnLst>
                              <p:par>
                                <p:cTn id="113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5" dur="1000"/>
                                        <p:tgtEl>
                                          <p:spTgt spid="1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16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1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2" dur="2000"/>
                                        <p:tgtEl>
                                          <p:spTgt spid="18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3" fill="hold">
                            <p:stCondLst>
                              <p:cond delay="3000"/>
                            </p:stCondLst>
                            <p:childTnLst>
                              <p:par>
                                <p:cTn id="124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26" dur="2000"/>
                                        <p:tgtEl>
                                          <p:spTgt spid="18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7" fill="hold">
                            <p:stCondLst>
                              <p:cond delay="5000"/>
                            </p:stCondLst>
                            <p:childTnLst>
                              <p:par>
                                <p:cTn id="12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title"/>
          </p:nvPr>
        </p:nvSpPr>
        <p:spPr>
          <a:xfrm>
            <a:off x="1652400" y="228240"/>
            <a:ext cx="749124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s1.getElementDeclarations()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Calling method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8" name=""/>
          <p:cNvCxnSpPr/>
          <p:nvPr/>
        </p:nvCxnSpPr>
        <p:spPr>
          <a:xfrm flipH="1" flipV="1" rot="5400000">
            <a:off x="2860560" y="905760"/>
            <a:ext cx="1162440" cy="1627560"/>
          </a:xfrm>
          <a:prstGeom prst="bentConnector5">
            <a:avLst>
              <a:gd name="adj1" fmla="val -19671"/>
              <a:gd name="adj2" fmla="val 65553"/>
              <a:gd name="adj3" fmla="val 119702"/>
            </a:avLst>
          </a:prstGeom>
          <a:ln w="0">
            <a:noFill/>
          </a:ln>
        </p:spPr>
      </p:cxnSp>
      <p:sp>
        <p:nvSpPr>
          <p:cNvPr id="18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02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21337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89548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4419720" y="2057400"/>
            <a:ext cx="205740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corporatedVersion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5638680" y="25146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6" name=""/>
          <p:cNvSpPr/>
          <p:nvPr/>
        </p:nvSpPr>
        <p:spPr>
          <a:xfrm>
            <a:off x="4419720" y="2895480"/>
            <a:ext cx="2057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572000" y="3352680"/>
            <a:ext cx="2286000" cy="156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4876920" y="365760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5562720" y="38098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0" name=""/>
          <p:cNvCxnSpPr>
            <a:stCxn id="197" idx="0"/>
            <a:endCxn id="201" idx="2"/>
          </p:cNvCxnSpPr>
          <p:nvPr/>
        </p:nvCxnSpPr>
        <p:spPr>
          <a:xfrm flipH="1" flipV="1">
            <a:off x="5333760" y="3139200"/>
            <a:ext cx="381600" cy="2134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lg" type="diamond" w="med"/>
          </a:ln>
        </p:spPr>
      </p:cxnSp>
      <p:sp>
        <p:nvSpPr>
          <p:cNvPr id="202" name=""/>
          <p:cNvSpPr/>
          <p:nvPr/>
        </p:nvSpPr>
        <p:spPr>
          <a:xfrm>
            <a:off x="1600200" y="5105520"/>
            <a:ext cx="2666880" cy="13798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3" name=""/>
          <p:cNvSpPr/>
          <p:nvPr/>
        </p:nvSpPr>
        <p:spPr>
          <a:xfrm>
            <a:off x="2057400" y="54100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743200" y="55627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4343400" y="2057400"/>
            <a:ext cx="198108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295280" y="14479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6" name=""/>
          <p:cNvSpPr/>
          <p:nvPr/>
        </p:nvSpPr>
        <p:spPr>
          <a:xfrm>
            <a:off x="2819520" y="1905120"/>
            <a:ext cx="1371600" cy="12027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7" name=""/>
          <p:cNvSpPr/>
          <p:nvPr/>
        </p:nvSpPr>
        <p:spPr>
          <a:xfrm>
            <a:off x="1295280" y="14479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2438280" y="1828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9" name=""/>
          <p:cNvSpPr/>
          <p:nvPr/>
        </p:nvSpPr>
        <p:spPr>
          <a:xfrm>
            <a:off x="1371600" y="22860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0" name=""/>
          <p:cNvCxnSpPr>
            <a:endCxn id="211" idx="2"/>
          </p:cNvCxnSpPr>
          <p:nvPr/>
        </p:nvCxnSpPr>
        <p:spPr>
          <a:xfrm flipV="1">
            <a:off x="2742840" y="3093840"/>
            <a:ext cx="686520" cy="2592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med" type="triangle" w="med"/>
            <a:tailEnd len="med" type="diamond" w="med"/>
          </a:ln>
        </p:spPr>
      </p:cxnSp>
      <p:sp>
        <p:nvSpPr>
          <p:cNvPr id="212" name=""/>
          <p:cNvSpPr/>
          <p:nvPr/>
        </p:nvSpPr>
        <p:spPr>
          <a:xfrm>
            <a:off x="2743200" y="1905120"/>
            <a:ext cx="1447920" cy="854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ncorporatedVersions</a:t>
            </a: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2743200" y="2819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3886200" y="23623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4" name=""/>
          <p:cNvCxnSpPr/>
          <p:nvPr/>
        </p:nvCxnSpPr>
        <p:spPr>
          <a:xfrm flipH="1" flipV="1">
            <a:off x="1980720" y="2652120"/>
            <a:ext cx="2286720" cy="3145320"/>
          </a:xfrm>
          <a:prstGeom prst="bentConnector4">
            <a:avLst>
              <a:gd name="adj1" fmla="val -9998"/>
              <a:gd name="adj2" fmla="val 61023"/>
            </a:avLst>
          </a:prstGeom>
          <a:ln cap="sq" w="12600">
            <a:solidFill>
              <a:srgbClr val="333300"/>
            </a:solidFill>
            <a:miter/>
            <a:headEnd len="med" type="triangle" w="med"/>
          </a:ln>
        </p:spPr>
      </p:cxnSp>
      <p:cxnSp>
        <p:nvCxnSpPr>
          <p:cNvPr id="215" name=""/>
          <p:cNvCxnSpPr>
            <a:endCxn id="201" idx="0"/>
          </p:cNvCxnSpPr>
          <p:nvPr/>
        </p:nvCxnSpPr>
        <p:spPr>
          <a:xfrm flipV="1">
            <a:off x="2057400" y="2056680"/>
            <a:ext cx="3277440" cy="229320"/>
          </a:xfrm>
          <a:prstGeom prst="bentConnector4">
            <a:avLst>
              <a:gd name="adj1" fmla="val 34878"/>
              <a:gd name="adj2" fmla="val 20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16" name=""/>
          <p:cNvSpPr/>
          <p:nvPr/>
        </p:nvSpPr>
        <p:spPr>
          <a:xfrm>
            <a:off x="5799240" y="1447920"/>
            <a:ext cx="24955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s1.getElementDeclarations()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5091840" y="1025640"/>
            <a:ext cx="51156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5108760" y="1371600"/>
            <a:ext cx="671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5029200" y="1066680"/>
            <a:ext cx="990720" cy="5857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0" name=""/>
          <p:cNvCxnSpPr>
            <a:stCxn id="219" idx="2"/>
            <a:endCxn id="191" idx="3"/>
          </p:cNvCxnSpPr>
          <p:nvPr/>
        </p:nvCxnSpPr>
        <p:spPr>
          <a:xfrm flipH="1">
            <a:off x="3885480" y="1661760"/>
            <a:ext cx="1639080" cy="24757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1" name=""/>
          <p:cNvCxnSpPr>
            <a:stCxn id="219" idx="2"/>
            <a:endCxn id="202" idx="3"/>
          </p:cNvCxnSpPr>
          <p:nvPr/>
        </p:nvCxnSpPr>
        <p:spPr>
          <a:xfrm flipH="1">
            <a:off x="4266360" y="1661760"/>
            <a:ext cx="1258200" cy="41356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222" name=""/>
          <p:cNvCxnSpPr>
            <a:stCxn id="219" idx="2"/>
            <a:endCxn id="197" idx="0"/>
          </p:cNvCxnSpPr>
          <p:nvPr/>
        </p:nvCxnSpPr>
        <p:spPr>
          <a:xfrm>
            <a:off x="5524200" y="1662120"/>
            <a:ext cx="191160" cy="169128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23" name=""/>
          <p:cNvSpPr/>
          <p:nvPr/>
        </p:nvSpPr>
        <p:spPr>
          <a:xfrm>
            <a:off x="6019920" y="1143000"/>
            <a:ext cx="2057400" cy="485640"/>
          </a:xfrm>
          <a:prstGeom prst="rightArrow">
            <a:avLst>
              <a:gd name="adj1" fmla="val 50000"/>
              <a:gd name="adj2" fmla="val 105912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4" name="" descr=""/>
          <p:cNvPicPr/>
          <p:nvPr/>
        </p:nvPicPr>
        <p:blipFill>
          <a:blip r:embed="rId1"/>
          <a:stretch/>
        </p:blipFill>
        <p:spPr>
          <a:xfrm>
            <a:off x="1500120" y="1523520"/>
            <a:ext cx="7491600" cy="4714920"/>
          </a:xfrm>
          <a:prstGeom prst="rect">
            <a:avLst/>
          </a:prstGeom>
          <a:ln w="0">
            <a:noFill/>
          </a:ln>
        </p:spPr>
      </p:pic>
      <p:sp>
        <p:nvSpPr>
          <p:cNvPr id="225" name=""/>
          <p:cNvSpPr/>
          <p:nvPr/>
        </p:nvSpPr>
        <p:spPr>
          <a:xfrm>
            <a:off x="4476960" y="6284880"/>
            <a:ext cx="2812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e org.eclipse.emf.ref.EList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0" dur="indefinite" restart="never" nodeType="tmRoot">
          <p:childTnLst>
            <p:seq>
              <p:cTn id="131" dur="indefinite" nodeType="mainSeq">
                <p:childTnLst>
                  <p:par>
                    <p:cTn id="132" fill="hold">
                      <p:stCondLst>
                        <p:cond delay="0"/>
                      </p:stCondLst>
                      <p:childTnLst>
                        <p:par>
                          <p:cTn id="133" fill="hold">
                            <p:stCondLst>
                              <p:cond delay="0"/>
                            </p:stCondLst>
                            <p:childTnLst>
                              <p:par>
                                <p:cTn id="134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36" dur="1000"/>
                                        <p:tgtEl>
                                          <p:spTgt spid="18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39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0" fill="hold">
                            <p:stCondLst>
                              <p:cond delay="1000"/>
                            </p:stCondLst>
                            <p:childTnLst>
                              <p:par>
                                <p:cTn id="141" nodeType="afterEffect" fill="hold" presetClass="path" presetID="35">
                                  <p:stCondLst>
                                    <p:cond delay="0"/>
                                  </p:stCondLst>
                                  <p:childTnLst>
                                    <p:animMotion origin="layout" path="M -0.12066 -0.00232 L -0.37066 -0.00232 E">
                                      <p:cBhvr>
                                        <p:cTn id="142" dur="1000" fill="hold"/>
                                        <p:tgtEl>
                                          <p:spTgt spid="216"/>
                                        </p:tgtEl>
                                      </p:cBhvr>
                                    </p:animMotion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3" fill="hold">
                            <p:stCondLst>
                              <p:cond delay="2000"/>
                            </p:stCondLst>
                            <p:childTnLst>
                              <p:par>
                                <p:cTn id="144" nodeType="afterEffect" fill="hold" presetClass="exit" presetID="3" presetSubtype="10">
                                  <p:stCondLst>
                                    <p:cond delay="0"/>
                                  </p:stCondLst>
                                  <p:childTnLst>
                                    <p:animEffect filter="blinds(horizontal)" transition="out">
                                      <p:cBhvr additive="repl">
                                        <p:cTn id="145" dur="10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9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3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1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3" dur="10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54" nodeType="with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6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000"/>
                            </p:stCondLst>
                            <p:childTnLst>
                              <p:par>
                                <p:cTn id="15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0" dur="1000"/>
                                        <p:tgtEl>
                                          <p:spTgt spid="22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1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3" dur="1000"/>
                                        <p:tgtEl>
                                          <p:spTgt spid="22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1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66" dur="1000"/>
                                        <p:tgtEl>
                                          <p:spTgt spid="22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5000"/>
                            </p:stCondLst>
                            <p:childTnLst>
                              <p:par>
                                <p:cTn id="16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0" dur="1000"/>
                                        <p:tgtEl>
                                          <p:spTgt spid="22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6000"/>
                            </p:stCondLst>
                            <p:childTnLst>
                              <p:par>
                                <p:cTn id="172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74" dur="1000"/>
                                        <p:tgtEl>
                                          <p:spTgt spid="22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82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8:17Z</dcterms:modified>
  <cp:revision>95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