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72E4-3E5F-4FD6-9B77-947082554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8D91-8D77-428F-B32C-6814B2F95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10ED-D811-46CF-A464-EB073B975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197D-D7FF-437B-B3FD-C590DD591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F146-AA06-4B24-86DF-6C289FBDE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CDC9-DBEC-4C75-AEAA-458835331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7C10-229D-4BA4-BC1B-0BF8F5FAD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AB1B-D6BE-4D45-85D0-F7758D0EA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CEC2-300C-4C1F-A99A-A01CF5A02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AB95-3143-48F6-89CB-ADDB0EE58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381F-3D0A-410F-BF89-C4627CFEE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FF8F-820D-4309-A95C-ECF3E2BB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D7BC8-3451-4D74-8664-EEC9D22CD3C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ReqIF 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8T11:40:36Z</dcterms:created>
  <dc:creator>Michael Jastram</dc:creator>
  <dc:description/>
  <dc:language>en-US</dc:language>
  <cp:lastModifiedBy>Michael Jastram</cp:lastModifiedBy>
  <dcterms:modified xsi:type="dcterms:W3CDTF">2012-10-08T11:41:32Z</dcterms:modified>
  <cp:revision>1</cp:revision>
  <dc:subject/>
  <dc:title>ReqIF Test File</dc:title>
</cp:coreProperties>
</file>