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15138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115920"/>
            <a:ext cx="2916360" cy="120312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4267080" y="6642000"/>
            <a:ext cx="4419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-2005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619280" y="907920"/>
            <a:ext cx="752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267080" y="6597720"/>
            <a:ext cx="4876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0528E-3C8A-4C2E-BA51-170020D30710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50920" y="1147680"/>
            <a:ext cx="4124160" cy="17049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340000" y="2349360"/>
            <a:ext cx="680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343400" y="6642000"/>
            <a:ext cx="4419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-2005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419720" y="6597720"/>
            <a:ext cx="4724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A1339-A159-4605-852C-8189BAAFD2F1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400" spc="-1" strike="noStrike">
                <a:solidFill>
                  <a:srgbClr val="000000"/>
                </a:solidFill>
                <a:latin typeface="Arial"/>
              </a:rPr>
              <a:t>Kuina</a:t>
            </a:r>
            <a:r>
              <a:rPr b="1" lang="ja-JP" sz="4400" spc="-1" strike="noStrike">
                <a:solidFill>
                  <a:srgbClr val="000000"/>
                </a:solidFill>
                <a:latin typeface="Arial"/>
              </a:rPr>
              <a:t>が魅せる</a:t>
            </a:r>
            <a:r>
              <a:rPr b="1" lang="ja-JP" sz="4400" spc="-1" strike="noStrike">
                <a:solidFill>
                  <a:srgbClr val="000000"/>
                </a:solidFill>
                <a:latin typeface="Arial"/>
              </a:rPr>
              <a:t>J2EE</a:t>
            </a:r>
            <a:r>
              <a:rPr b="1" lang="ja-JP" sz="4400" spc="-1" strike="noStrike">
                <a:solidFill>
                  <a:srgbClr val="000000"/>
                </a:solidFill>
                <a:latin typeface="Arial"/>
              </a:rPr>
              <a:t>の近未来</a:t>
            </a:r>
            <a:br>
              <a:rPr sz="4400"/>
            </a:b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55600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Arial"/>
              </a:rPr>
              <a:t>ひがやすを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Arial"/>
              </a:rPr>
              <a:t>Seasar Proje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Arial"/>
              </a:rPr>
              <a:t>電通国際情報サービ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Colum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アノテーショ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31040" cy="52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Employee {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@Column(name="ENAME"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String getEmployeeName() {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return ena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アノテーショ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31040" cy="52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Employee {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@Id(generate=SEQUEN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generator="EMPID_SEQ"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int getId() {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return i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Versio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アノテーショ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31040" cy="52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Employee {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@Ver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int getVersion() {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return versio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Transient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アノテーショ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31040" cy="52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Employee {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@Transi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int getHoge() {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return hog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1: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関連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80880" y="2116080"/>
            <a:ext cx="3124440" cy="132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part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(P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952880" y="1752480"/>
            <a:ext cx="3810240" cy="206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ploy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(P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partment_id(F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OneToMany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アノテーショ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31040" cy="52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Department {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@OneToMany(mappedBy="department"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rotected Collection&lt;Employee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employees = new HashSet(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ManyToOn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アノテーショ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31040" cy="52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lvl="1" marL="660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Employee {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@ManyTo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@JoinColumn(name="DEPARTMENT_ID"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referencedColumnName="ID"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rotected Department departmen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@Column(name="DEPARTMENT_ID"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rotected int departmentI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N: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関連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85800" y="1905120"/>
            <a:ext cx="3124080" cy="132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(P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952880" y="1905120"/>
            <a:ext cx="3810240" cy="132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ploy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(P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438280" y="3581280"/>
            <a:ext cx="3733920" cy="2806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_Employ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(P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s_id(F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ployees_id(F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ManyToMany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アノテーション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(own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4360" y="990360"/>
            <a:ext cx="8231040" cy="55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Project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@ManyToM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@AssociationTable(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table=@Table(name="PROJECT_EMPLOYEE"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joinColumns={@JoinCololumn(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    </a:t>
            </a:r>
            <a:r>
              <a:rPr b="0" lang="ja-JP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name="PROJECTS_ID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    </a:t>
            </a:r>
            <a:r>
              <a:rPr b="0" lang="ja-JP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referencedColumnName="ID")}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inverseJoinColumns={@JoinColumn(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    </a:t>
            </a:r>
            <a:r>
              <a:rPr b="0" lang="ja-JP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name="EMPLOYEES_ID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    </a:t>
            </a:r>
            <a:r>
              <a:rPr b="0" lang="ja-JP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referencedColumnName="ID")}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rotected Collection&lt;Employee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employees = new HashSet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ManyToMany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アノテーショ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31040" cy="52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Employee {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@ManyToMany(mappedBy="employees"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rotected Collection&lt;Project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rojects = new HashSet(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EJB3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って本当に使いやすい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前のバージョンと比べる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実装がシンプルになっ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アノテーションにより見通しがよくなっ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の導入により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JNDI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をルックアップする必要がなくなっ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condaryTabl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アノテーショ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31040" cy="52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lvl="1" marL="660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@SecondaryTable(name=“DEPARTMENT”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@JoinColumn(name="DEPARTMENT_ID"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referencedColumnName="ID"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Employee {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@Column(name="DNAME"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econdaryTable="DEPARTMENT"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rotected String departmentNa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Kuina Dao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とは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4000" y="1196640"/>
            <a:ext cx="807876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アスペクトによる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EJBQL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Dao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の実装コードの自動生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2Way SQ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条件によって変わる動的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SQ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KuinaDaoIntercep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31040" cy="52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include path=“kuina.dicon”/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class=“…EmployeeDao”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aspect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kuina.daoIntercep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aspect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全件取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31040" cy="52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ollection&lt;Employee&gt; getEmployees(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Criterio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アノテーショ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31040" cy="52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@Criterion(columnName=“id”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Employee getEmployeeById(int id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WHERE employeeid = ?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Criterio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アノテーショ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31040" cy="52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@Criterion(columnName=“job”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ollection&lt;Employee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getEmployeesByJob(String job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WHERE job = ?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Criterio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アノテーショ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31040" cy="52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@Criterion(columnName=“sal”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type=CriterionType.G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ollection&lt;Employee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getEmployeesBySalary(BigDecimal sal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WHERE sal &gt;= ?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Criterio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アノテーショ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CriterionTyp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EQ(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デフォルト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G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LI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Criterio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アノテーショ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31040" cy="52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@Criterion(columnName=“ename”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type=CriterionType.LIK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likeType=LikeType.BOT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ollection&lt;Employee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getEmployeesByEname(String ename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WHERE ename LIKE %?1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Criterio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アノテーショ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LikeTyp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BOTH(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デフォルト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H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T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EJB3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って本当に使いやすい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でも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アプリケーションサーバにデプロイしないと基本的にテストできな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の機能も未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Criterions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アノテーショ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31040" cy="52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lvl="1" marL="705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@Criterions({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@Criterion(columnName=“sal”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type=CriterionType.GE)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@Criterion(columnName=“sal”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type=CriterionType.LE)}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ollection&lt;Employee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getEmployeesBySalaryFromTo(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BigDecimal salFrom, BigDecimal salTo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WHERE sal &gt;= ?1 AND sal &lt;= ?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引数による動的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WHER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salFrom not null, salTo not nu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WHERE salFrom &gt;= ?1</a:t>
            </a:r>
            <a:br>
              <a:rPr sz="3200"/>
            </a:b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  AND salTo &lt;= ?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salFrom not null, salTo nu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WHERE salFrom &gt;= ?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salFrom null, salTo not nu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WHERE salTo &lt;= ?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salFrom null, salTo nu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WHERE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句な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DTO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による条件指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31040" cy="52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lvl="1" marL="7207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EmployeeSearchDto {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@Criterion(columnName=“ename”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type=CriterionType.LIK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likeType=LikeType.BOT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rotected String employeeNa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DTO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による条件指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31040" cy="52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ollection&lt;Employee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getEmployeesByDto(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EmployeeSearchDto dto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Map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による条件指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キーはカラム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値は検索値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条件は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CriterionType.EQ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&lt;T&gt;T merge(T entity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persistence context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に関連付けられていない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entity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を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persistence context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に関連付け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insert,update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が実際に行われるのはトランザクションがコミットされる直前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関連オブジェクトも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merge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され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cascade=MERGE or 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void remove(Object entity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entity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を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removed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な状態にす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delete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が実際に行われるのはトランザクションがコミットされる直前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関連オブジェクトも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remove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され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cascade=REMOVE or 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Query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指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31040" cy="52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@NamedQuery(queryString="SELECT 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FROM Department 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JOIN FETCH d.employe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WHERE d.id = ?1"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Department getDepartment(int id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Query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外部ファイル指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218960"/>
            <a:ext cx="8231040" cy="523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クラス名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_getDepartment.ejbq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ELECT 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FROM Department 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JOIN FETCH d.employe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WHERE d.id = ?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Way SQ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外部ファイル化した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ファイル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SQL*Plus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等のツールでそのまま実行でき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NamedQuery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アノテーションの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queryString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としても使え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DB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開発者と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Java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開発者の分業が可能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私からのメッセー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テストしにくい開発環境・フレームワークなんかくそくらえ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実装の正しさはテストによってのみ確かめられ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バインド変数コメン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31040" cy="52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EmployeeDao_getEmployee.sq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ELECT * FROM em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WHERE id = /*?1*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Employee getEmployee(int id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バインド変数コメン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31040" cy="52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ELECT * FROM em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WHERE job IN /*?1*/('CLERK'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ollection&lt;Employee&gt; getEmployees(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tring[] jobs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埋め込み変数コメン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31040" cy="52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571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ELECT * FROM em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WHERE id = /*$1*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引数に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3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を渡すとバインド変数ではなく文字として値が埋め込まれ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ELECT * FROM em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WHERE id =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変数コメン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31040" cy="52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ELECT * FROM em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WHERE job = 'CLERK' 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/*IF ?1 != null*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al &gt;= /*?1*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/*END*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BEGI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変数コメン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31040" cy="52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ELECT * FROM em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/*BEGIN*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W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/*IF ?1 != null*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job = /*?1*/'CLERK'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/*END*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/*IF ?2 != null*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AND sal &gt;= /*?2*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/*END*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/*END*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Kuina Stud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Eclipse Plug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Model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DaoMak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SQL Conso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Data Transf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e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D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ベースとなる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Entity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の抽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OneToMany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の抽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SecondaryTable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の抽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RelationShip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のグラフィック表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e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Ent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Table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と連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Table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との差異チェック・同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リファクタリングサポー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DDL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の出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各種データベースサポー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DaoMa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メソッド作成支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による検索、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merge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remove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の自動作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特定のカラム、検索用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DTO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Map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での検索のウィザー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検索用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DTO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作成支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テスト支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KuinaUnit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のテストコードの自動作成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テスト用の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Excel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データの自動作成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SQL Console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との連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L Conso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EJBQL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の実行環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テーブル名、エンティティ名、カラム名、プロパティ名、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EJBSQL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の補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検索結果を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Grid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表示し、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Grid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から直接データの更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Grid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に表示されたデータを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Excel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CSV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に保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DaoMaker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との連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自動生成される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EJBQL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NamedQuery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、外部ファイルを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Console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に表示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Console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上の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EJBQL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を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NamedQuery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、外部ファイルに保存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EJB3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って本当にだめ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EntityBean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はよくできてい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Hibernate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TopLink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JDO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の仕様をさらに洗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シンプルで覚えやす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アノテーションの記述量も最小限になるように工夫されてい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マルチデータベース間のデータ移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Excel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CSV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へのエクスポート、インポー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ご参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33160" y="1197000"/>
            <a:ext cx="838044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Arial"/>
              </a:rPr>
              <a:t>ひがやすを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http://d.hatena.ne.jp/higayasuo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higa@isid.co.j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Arial"/>
              </a:rPr>
              <a:t>Seasar.or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http://www.seasar.or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EJB3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にたいする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取り組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EntityBean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は採用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MessageDrivenBean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は状況しだ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それら以外は不採用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EntityBean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を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DIContainer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上で動かす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Kuina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とは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Kuina Co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EJB3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EntityBean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の実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Kuina Da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S2Dao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EntityBean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版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Kuina Stud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Kuina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用の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Eclipse Plugin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Entity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アノテーショ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31040" cy="52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@Ent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Emp {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Tabl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アノテーショ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31040" cy="52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@Ent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@Table(name=“EMP”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Employee {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6T13:58:08Z</dcterms:created>
  <dc:creator>Masataka Kurihara</dc:creator>
  <dc:description/>
  <dc:language>en-US</dc:language>
  <cp:lastModifiedBy>higa</cp:lastModifiedBy>
  <dcterms:modified xsi:type="dcterms:W3CDTF">2005-04-22T02:19:17Z</dcterms:modified>
  <cp:revision>187</cp:revision>
  <dc:subject/>
  <dc:title>スライド 1</dc:title>
</cp:coreProperties>
</file>