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3E6E-B003-42FF-A0E7-83960FF5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12E4-A1CB-4A03-8448-02B41838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C672-21D5-42F1-8B3E-E8F225E7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030B-B040-44E3-8AD1-8ACDEF57C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7048-45BE-44F9-BDD3-196148E5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49C3-5923-40E4-B851-8A9CB2114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7A5D-6831-4EF6-BA3E-6452DDC4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B53D-DE1F-4D70-ABC6-87874235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D54-2563-4F0C-AF49-CD894679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479-47AC-4DB0-8665-E2FF022C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121-C51C-4EB1-8011-2C927B02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8F6-A655-445F-88A4-0EF9B70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84E66-71F0-48B5-92B9-F20D657DC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DE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Arial"/>
              </a:rPr>
              <a:t>のしく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30200" y="1197000"/>
            <a:ext cx="144000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サー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651640" y="1197000"/>
            <a:ext cx="143964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マクロプログラ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0200" y="1484280"/>
            <a:ext cx="28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59280" y="1197000"/>
            <a:ext cx="22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起動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TPMACRO /D=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000208D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907920"/>
            <a:ext cx="107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 u="sng">
                <a:solidFill>
                  <a:srgbClr val="000000"/>
                </a:solidFill>
                <a:uFillTx/>
                <a:latin typeface="Arial"/>
              </a:rPr>
              <a:t>HWND HVTW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87640" y="620640"/>
            <a:ext cx="1368360" cy="289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トピック名生成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484360" y="836280"/>
            <a:ext cx="503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284720" y="90792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771640" y="1700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92360" y="170028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へ接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71640" y="20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06064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XECU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771640" y="242100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242100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2421000"/>
            <a:ext cx="143964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ドバイズルー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2565360"/>
            <a:ext cx="934920" cy="503280"/>
          </a:xfrm>
          <a:custGeom>
            <a:avLst/>
            <a:gdLst>
              <a:gd name="textAreaLeft" fmla="*/ 125280 w 934920"/>
              <a:gd name="textAreaRight" fmla="*/ 809640 w 934920"/>
              <a:gd name="textAreaTop" fmla="*/ 94680 h 503280"/>
              <a:gd name="textAreaBottom" fmla="*/ 330480 h 5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50" stAng="-5400000" swAng="-5400000"/>
                <a:lnTo>
                  <a:pt x="0" y="10112"/>
                </a:lnTo>
                <a:arcTo wR="21600" hR="8150" stAng="10800000" swAng="-2811621"/>
                <a:lnTo>
                  <a:pt x="14400" y="21134"/>
                </a:lnTo>
                <a:lnTo>
                  <a:pt x="21600" y="17280"/>
                </a:lnTo>
                <a:lnTo>
                  <a:pt x="14400" y="12494"/>
                </a:lnTo>
                <a:lnTo>
                  <a:pt x="14400" y="15833"/>
                </a:lnTo>
                <a:arcTo wR="21600" hR="8150" stAng="7988379" swAng="2654456"/>
                <a:lnTo>
                  <a:pt x="157" y="9131"/>
                </a:lnTo>
                <a:arcTo wR="21600" hR="8150" stAng="-10642835" swAng="5242835"/>
                <a:close/>
              </a:path>
              <a:path fill="darkenLess" w="21600" h="21600">
                <a:moveTo>
                  <a:pt x="21600" y="0"/>
                </a:moveTo>
                <a:arcTo wR="21600" hR="8150" stAng="-5400000" swAng="-5400000"/>
                <a:lnTo>
                  <a:pt x="0" y="8150"/>
                </a:lnTo>
                <a:arcTo wR="21600" hR="8150" stAng="10800000" swAng="-157165"/>
                <a:lnTo>
                  <a:pt x="157" y="9131"/>
                </a:lnTo>
                <a:arcTo wR="21600" hR="8150" stAng="-10642835" swAng="524283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8000" y="3141720"/>
            <a:ext cx="792000" cy="358560"/>
          </a:xfrm>
          <a:prstGeom prst="wedgeRoundRectCallout">
            <a:avLst>
              <a:gd name="adj1" fmla="val -8916"/>
              <a:gd name="adj2" fmla="val -98671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REQ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771640" y="292428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92360" y="292428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DVDAT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2492280"/>
            <a:ext cx="1009800" cy="505080"/>
          </a:xfrm>
          <a:prstGeom prst="wedgeRoundRectCallout">
            <a:avLst>
              <a:gd name="adj1" fmla="val -77513"/>
              <a:gd name="adj2" fmla="val 38050"/>
              <a:gd name="adj3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サーバからのデータ受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71640" y="335772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357720"/>
            <a:ext cx="151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データ送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POK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71640" y="3860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3860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92640"/>
            <a:ext cx="288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8000" y="4292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通信終了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CONNEC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5373720"/>
            <a:ext cx="6624720" cy="1079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D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通信はピアツーピアの接続モデルを持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・セッションの識別はサービス名（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ATERM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トピック名（任意の文字列）の組み合わせで行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02-20T12:29:44Z</dcterms:modified>
  <cp:revision>50</cp:revision>
  <dc:subject/>
  <dc:title>DDEのしくみ</dc:title>
</cp:coreProperties>
</file>