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717-3B89-4E6F-95EC-1DCB1800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BD3A-1FBB-41ED-AC01-A2AD7AE8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8F0E-5300-4DBC-B434-CD0A5B8B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B8D7-E7C3-40C6-95D2-C0EB77D2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5F4-732F-4116-AE2F-C1306AD6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DD5-6276-461A-AAE7-24591021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5B31-9DC3-4C65-80A1-B9BF7455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D89F-A59B-48C0-8FF5-3DF27E90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5A4-1E18-46E3-8FC5-FF218151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D7F6-FA04-4B6C-828B-8C8DD26A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C907-4CA7-4D0E-A533-7E4ADD68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9D1-3974-4B39-B60D-68BFB5F6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466AA-72BB-4418-91BC-BC7394DC5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なし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105084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91628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8728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148428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35280" y="148428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484360" y="19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9875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692280"/>
            <a:ext cx="1152720" cy="360360"/>
          </a:xfrm>
          <a:prstGeom prst="wedgeRoundRectCallout">
            <a:avLst>
              <a:gd name="adj1" fmla="val -1791"/>
              <a:gd name="adj2" fmla="val 165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ビッグエンディア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692280"/>
            <a:ext cx="1152360" cy="288720"/>
          </a:xfrm>
          <a:prstGeom prst="wedgeRoundRectCallout">
            <a:avLst>
              <a:gd name="adj1" fmla="val -25893"/>
              <a:gd name="adj2" fmla="val 2241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パディン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35280" y="1916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98900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24360" y="1484280"/>
            <a:ext cx="216036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84720" y="148428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484360" y="2781360"/>
            <a:ext cx="4751640" cy="287280"/>
          </a:xfrm>
          <a:prstGeom prst="leftRightArrow">
            <a:avLst>
              <a:gd name="adj1" fmla="val 42648"/>
              <a:gd name="adj2" fmla="val 1339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3141720"/>
            <a:ext cx="86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236000" y="148428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2421000"/>
            <a:ext cx="36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1916280"/>
            <a:ext cx="2111400" cy="744480"/>
          </a:xfrm>
          <a:custGeom>
            <a:avLst/>
            <a:gdLst/>
            <a:ahLst/>
            <a:rect l="l" t="t" r="r" b="b"/>
            <a:pathLst>
              <a:path w="1330" h="469">
                <a:moveTo>
                  <a:pt x="151" y="0"/>
                </a:moveTo>
                <a:cubicBezTo>
                  <a:pt x="151" y="57"/>
                  <a:pt x="151" y="114"/>
                  <a:pt x="151" y="182"/>
                </a:cubicBezTo>
                <a:cubicBezTo>
                  <a:pt x="151" y="250"/>
                  <a:pt x="0" y="364"/>
                  <a:pt x="151" y="409"/>
                </a:cubicBezTo>
                <a:cubicBezTo>
                  <a:pt x="302" y="454"/>
                  <a:pt x="862" y="469"/>
                  <a:pt x="1058" y="454"/>
                </a:cubicBezTo>
                <a:cubicBezTo>
                  <a:pt x="1254" y="439"/>
                  <a:pt x="1292" y="378"/>
                  <a:pt x="1330" y="31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4720" y="1413000"/>
            <a:ext cx="1151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1052640"/>
            <a:ext cx="3192480" cy="612720"/>
          </a:xfrm>
          <a:custGeom>
            <a:avLst/>
            <a:gdLst/>
            <a:ahLst/>
            <a:rect l="l" t="t" r="r" b="b"/>
            <a:pathLst>
              <a:path w="2011" h="386">
                <a:moveTo>
                  <a:pt x="91" y="386"/>
                </a:moveTo>
                <a:cubicBezTo>
                  <a:pt x="45" y="257"/>
                  <a:pt x="0" y="129"/>
                  <a:pt x="272" y="69"/>
                </a:cubicBezTo>
                <a:cubicBezTo>
                  <a:pt x="544" y="9"/>
                  <a:pt x="1437" y="0"/>
                  <a:pt x="1724" y="23"/>
                </a:cubicBezTo>
                <a:cubicBezTo>
                  <a:pt x="2011" y="46"/>
                  <a:pt x="2003" y="125"/>
                  <a:pt x="1996" y="205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84360" y="4005360"/>
            <a:ext cx="6191280" cy="287280"/>
          </a:xfrm>
          <a:prstGeom prst="leftRightArrow">
            <a:avLst>
              <a:gd name="adj1" fmla="val 42648"/>
              <a:gd name="adj2" fmla="val 174506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236000" y="1773360"/>
            <a:ext cx="0" cy="115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1773360"/>
            <a:ext cx="0" cy="2376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236000" y="191628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667640" y="198900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635280" y="17733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76720" y="436572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送信処理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が行われた上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send_packet_blocking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さ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451640" y="549360"/>
            <a:ext cx="1152720" cy="503280"/>
          </a:xfrm>
          <a:prstGeom prst="wedgeRoundRectCallout">
            <a:avLst>
              <a:gd name="adj1" fmla="val -21763"/>
              <a:gd name="adj2" fmla="val 12823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MAC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が付かない場合もある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パケットフォーマット（圧縮あり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2205000"/>
            <a:ext cx="15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var-&gt;ssh_state.outbu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2565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2997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8728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84360" y="2565360"/>
            <a:ext cx="11509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サイ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2565360"/>
            <a:ext cx="28728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84360" y="2997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71640" y="306864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35280" y="2997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07008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2565360"/>
            <a:ext cx="1152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ディングデー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2565360"/>
            <a:ext cx="143964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M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299736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70080"/>
            <a:ext cx="6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76360" y="5373720"/>
            <a:ext cx="619272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SH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の圧縮は、</a:t>
            </a:r>
            <a:r>
              <a:rPr b="0" sz="1800" spc="-1" strike="noStrike">
                <a:solidFill>
                  <a:srgbClr val="000000"/>
                </a:solidFill>
                <a:latin typeface="Arial"/>
              </a:rPr>
              <a:t>finish_send_packet_special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で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パケット構築と暗号化の前に行われ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圧縮処理により、逆にペイロードが大きくなる場合もあ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19640" y="1773360"/>
            <a:ext cx="504720" cy="576000"/>
          </a:xfrm>
          <a:prstGeom prst="downArrow">
            <a:avLst>
              <a:gd name="adj1" fmla="val 50000"/>
              <a:gd name="adj2" fmla="val 2853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549360"/>
            <a:ext cx="2160720" cy="287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055960" y="1268280"/>
            <a:ext cx="1436040" cy="287280"/>
            <a:chOff x="2055960" y="1268280"/>
            <a:chExt cx="1436040" cy="287280"/>
          </a:xfrm>
        </p:grpSpPr>
        <p:sp>
          <p:nvSpPr>
            <p:cNvPr id="92" name=""/>
            <p:cNvSpPr/>
            <p:nvPr/>
          </p:nvSpPr>
          <p:spPr>
            <a:xfrm>
              <a:off x="20559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34288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016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917440" y="1268280"/>
              <a:ext cx="2869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4720" y="1268280"/>
              <a:ext cx="28728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995640" y="907920"/>
            <a:ext cx="505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90792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lib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268280"/>
            <a:ext cx="1656000" cy="28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36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148360" y="836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0920" y="1557360"/>
            <a:ext cx="4334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48360" y="155736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24360" y="184464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パケット構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24360" y="2565360"/>
            <a:ext cx="1655640" cy="287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圧縮ペイロ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84360" y="3500280"/>
            <a:ext cx="4248360" cy="287640"/>
          </a:xfrm>
          <a:prstGeom prst="leftRightArrow">
            <a:avLst>
              <a:gd name="adj1" fmla="val 42648"/>
              <a:gd name="adj2" fmla="val 11959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84360" y="4365720"/>
            <a:ext cx="5688000" cy="287280"/>
          </a:xfrm>
          <a:prstGeom prst="leftRightArrow">
            <a:avLst>
              <a:gd name="adj1" fmla="val 42648"/>
              <a:gd name="adj2" fmla="val 160321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84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32720" y="2852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172360" y="285264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37893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465300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送信対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13T16:20:30Z</dcterms:modified>
  <cp:revision>276</cp:revision>
  <dc:subject/>
  <dc:title>DDEのしくみ</dc:title>
</cp:coreProperties>
</file>