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B3D9-2EB1-45AA-93F9-5D2DE263C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434A-FB62-4E13-A873-BD4413062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9167-BF60-49B2-9613-900F6D89C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43FC-02FD-4D06-91E8-79949B463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285D-3633-4C96-8BC8-0F898E1E4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D998-3087-4CA4-83D6-35A3BC9B3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60AA-19C1-427E-A199-D4D01640D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BCD5-2FEF-4501-B971-ED2D2C0DF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1A13-A745-4ED1-B39D-FDAED16C1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E0B3-ABEE-4330-912D-A4F38B9F6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6BC3-087E-41DA-8CC3-056326A0B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1F62-B3C8-49BB-AA97-72791726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1C533-4427-4344-A56A-C3C2BF0037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モジュール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10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27280" y="83664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cmn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105264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40000" y="148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1268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dlg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0000" y="1844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27280" y="17002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file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22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2133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set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340000" y="2781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27280" y="256536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tek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92280"/>
            <a:ext cx="3743280" cy="2376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940360" y="836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060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67280" y="981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692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067280" y="112536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56000" y="1268280"/>
            <a:ext cx="1295640" cy="432000"/>
          </a:xfrm>
          <a:prstGeom prst="wedgeRoundRectCallout">
            <a:avLst>
              <a:gd name="adj1" fmla="val -13601"/>
              <a:gd name="adj2" fmla="val -78675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によ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プロセス間通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2421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term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812000" y="2205000"/>
            <a:ext cx="1081080" cy="94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yg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/dev/ptm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256536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40360" y="2276640"/>
            <a:ext cx="122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TCP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接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80000" y="1844640"/>
            <a:ext cx="1295640" cy="432000"/>
          </a:xfrm>
          <a:prstGeom prst="wedgeRoundRectCallout">
            <a:avLst>
              <a:gd name="adj1" fmla="val -14703"/>
              <a:gd name="adj2" fmla="val 80513"/>
              <a:gd name="adj3" fmla="val 16667"/>
            </a:avLst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l port20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番で待ち受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20000" y="2637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67280" y="2708280"/>
            <a:ext cx="1441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860640"/>
            <a:ext cx="1223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Proxy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3860640"/>
            <a:ext cx="1224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xkanjimenu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26920" y="3141720"/>
            <a:ext cx="289080" cy="647640"/>
          </a:xfrm>
          <a:prstGeom prst="upArrow">
            <a:avLst>
              <a:gd name="adj1" fmla="val 50000"/>
              <a:gd name="adj2" fmla="val 5600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9564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64000" y="3141720"/>
            <a:ext cx="288720" cy="647640"/>
          </a:xfrm>
          <a:prstGeom prst="upArrow">
            <a:avLst>
              <a:gd name="adj1" fmla="val 50000"/>
              <a:gd name="adj2" fmla="val 5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436572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起動時にダイナミックローディン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keycode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2000" y="537372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pmenu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08720" y="314172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yglaunch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156360" y="285228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19640" y="4292640"/>
            <a:ext cx="151308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32720" y="4508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08720" y="429264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MeTTc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20000" y="450864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20000" y="4869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472428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runlt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20000" y="5300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515772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TLEdit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3:46:57Z</dcterms:modified>
  <cp:revision>65</cp:revision>
  <dc:subject/>
  <dc:title>TeraTermモジュール構成</dc:title>
</cp:coreProperties>
</file>