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7D77-DEB6-4953-B6A9-E8400BED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2039-5E08-4E32-AB89-BEEC8C02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172-42CA-4761-9A48-DD6B85DA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1CE-6C6B-4CD7-8201-43F6DFD1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9B2D-4A6A-4028-98DD-D78CB655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F6A-BFE5-43D0-A2C8-9D19C786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12AB-2BCA-41CA-994A-B72F5B28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567-222D-48C4-AE2C-C5BDC92F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88DB-7C46-4827-AF5E-097643E0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B4C-D62B-4C4C-94BC-0A7543E2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7CD3-C8EE-4E23-8384-FC781BF1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E66-16C6-4023-B020-A2548ED6E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106F-1766-48F3-B45A-BE510040A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バッファ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4936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 u="sng">
                <a:solidFill>
                  <a:srgbClr val="000000"/>
                </a:solidFill>
                <a:uFillTx/>
                <a:latin typeface="Arial"/>
              </a:rPr>
              <a:t>TComVar 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1052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32000" y="1052640"/>
            <a:ext cx="2160720" cy="187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50920" y="907920"/>
            <a:ext cx="1368360" cy="2017800"/>
            <a:chOff x="250920" y="907920"/>
            <a:chExt cx="1368360" cy="2017800"/>
          </a:xfrm>
        </p:grpSpPr>
        <p:sp>
          <p:nvSpPr>
            <p:cNvPr id="46" name=""/>
            <p:cNvSpPr/>
            <p:nvPr/>
          </p:nvSpPr>
          <p:spPr>
            <a:xfrm>
              <a:off x="250920" y="9079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0920" y="1197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14842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0920" y="1773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50920" y="206064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234936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0920" y="263700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 flipV="1">
            <a:off x="1619280" y="1052640"/>
            <a:ext cx="1512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306864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空きあり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32000" y="1052640"/>
            <a:ext cx="2160720" cy="129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19280" y="1628640"/>
            <a:ext cx="1512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435640" y="105264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03640" y="76500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619280" y="184464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19280" y="1052640"/>
            <a:ext cx="151272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63640" y="422100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95280" y="4076640"/>
            <a:ext cx="1368360" cy="2017800"/>
            <a:chOff x="395280" y="4076640"/>
            <a:chExt cx="1368360" cy="2017800"/>
          </a:xfrm>
        </p:grpSpPr>
        <p:sp>
          <p:nvSpPr>
            <p:cNvPr id="63" name=""/>
            <p:cNvSpPr/>
            <p:nvPr/>
          </p:nvSpPr>
          <p:spPr>
            <a:xfrm>
              <a:off x="395280" y="407664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H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5280" y="436572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Buf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ポイン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5280" y="465300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Arial"/>
                </a:rPr>
                <a:t>Log</a:t>
              </a:r>
              <a:r>
                <a:rPr b="0" lang="ja-JP" sz="1000" spc="-1" strike="noStrike">
                  <a:solidFill>
                    <a:srgbClr val="000000"/>
                  </a:solidFill>
                  <a:latin typeface="Arial"/>
                </a:rPr>
                <a:t>Pt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494208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5280" y="522936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5280" y="5518080"/>
              <a:ext cx="1368360" cy="28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Sta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95280" y="5805720"/>
              <a:ext cx="13683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Cou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1763640" y="422064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48000" y="6237360"/>
            <a:ext cx="208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バッファ（フル状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4221000"/>
            <a:ext cx="2160360" cy="1872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デー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63640" y="4797360"/>
            <a:ext cx="1513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8000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03640" y="3933720"/>
            <a:ext cx="11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Arial"/>
              </a:rPr>
              <a:t>InBuffSize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763640" y="5013360"/>
            <a:ext cx="165744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1763640" y="5516280"/>
            <a:ext cx="1513080" cy="14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5516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205000"/>
            <a:ext cx="2160720" cy="14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5373720"/>
            <a:ext cx="2160360" cy="144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最新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21080" y="4221000"/>
            <a:ext cx="0" cy="187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12000" y="1052640"/>
            <a:ext cx="215640" cy="1296720"/>
          </a:xfrm>
          <a:prstGeom prst="downArrow">
            <a:avLst>
              <a:gd name="adj1" fmla="val 50000"/>
              <a:gd name="adj2" fmla="val 1503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56360" y="14842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0360" y="5560920"/>
            <a:ext cx="216000" cy="604800"/>
          </a:xfrm>
          <a:prstGeom prst="downArrow">
            <a:avLst>
              <a:gd name="adj1" fmla="val 50000"/>
              <a:gd name="adj2" fmla="val 7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56360" y="5734080"/>
            <a:ext cx="107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の時系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84720" y="616572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84720" y="645336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08720" y="3933360"/>
            <a:ext cx="0" cy="2519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2000" y="393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2000" y="3933720"/>
            <a:ext cx="0" cy="1582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16720" y="2060640"/>
            <a:ext cx="2519280" cy="1584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リングバッフ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バッファフルの場合は最古のデー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から上書き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バッファ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ッファは共有さ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バイト分が有効な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データとな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・ログ採取とマクロ実行を同時に行う場合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tar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Cou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同一値にな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6:00:59Z</dcterms:modified>
  <cp:revision>114</cp:revision>
  <dc:subject/>
  <dc:title>DDEのしくみ</dc:title>
</cp:coreProperties>
</file>