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780-EA6E-4C7A-81C3-2EECEDB4A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AA5-885E-472D-A6AC-262BAAC6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F303-CF1A-430A-B15A-45313FBD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F98-12AA-4E1D-92E0-6BFC4853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A4F-F254-42D6-A09E-8F95723E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3239-CDE9-468D-98EC-B8771E06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1B6E-86A5-44D7-A7A6-3FB4DD4E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37AB-9DB1-4FDF-9C65-AF9A6025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D7D6-0E42-4212-BD85-8218ECB7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7527-D992-47E8-B4F9-4695A08A8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FDB6-6A40-4F8D-8C2F-DAB3A883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B6F6-1969-462B-85FA-5CC8AC19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9885-74EA-47EA-9E4F-0DA600DD7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X11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転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987640" y="69228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アプリケーショ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87640" y="2852640"/>
            <a:ext cx="2448000" cy="865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5013360"/>
            <a:ext cx="2448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14972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6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35280" y="2060640"/>
            <a:ext cx="23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528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1636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371628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43750"/>
              <a:gd name="adj4" fmla="val 1310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781360"/>
            <a:ext cx="2087640" cy="865080"/>
          </a:xfrm>
          <a:prstGeom prst="wedgeRectCallout">
            <a:avLst>
              <a:gd name="adj1" fmla="val 69314"/>
              <a:gd name="adj2" fmla="val 1220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handle_SSH2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WD_received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UTIL_sock_buffered_writ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blocking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2340000" y="4292280"/>
            <a:ext cx="574560" cy="1081080"/>
          </a:xfrm>
          <a:custGeom>
            <a:avLst/>
            <a:gdLst>
              <a:gd name="textAreaLeft" fmla="*/ 76680 w 574560"/>
              <a:gd name="textAreaRight" fmla="*/ 497880 w 57456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8000" y="4221000"/>
            <a:ext cx="2087640" cy="865440"/>
          </a:xfrm>
          <a:prstGeom prst="wedgeRectCallout">
            <a:avLst>
              <a:gd name="adj1" fmla="val 56768"/>
              <a:gd name="adj2" fmla="val 140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FD_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write_local_connection_buffer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UTIL_sock_write_mor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2852640"/>
            <a:ext cx="2519640" cy="863640"/>
          </a:xfrm>
          <a:prstGeom prst="wedgeRectCallout">
            <a:avLst>
              <a:gd name="adj1" fmla="val -60837"/>
              <a:gd name="adj2" fmla="val 1378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_local_connection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channel_sen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send_channel_data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05360" y="1844640"/>
            <a:ext cx="2089440" cy="330120"/>
          </a:xfrm>
          <a:prstGeom prst="borderCallout1">
            <a:avLst>
              <a:gd name="adj1" fmla="val 18750"/>
              <a:gd name="adj2" fmla="val -8333"/>
              <a:gd name="adj3" fmla="val 163462"/>
              <a:gd name="adj4" fmla="val -490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12-10-14T09:23:22Z</dcterms:modified>
  <cp:revision>355</cp:revision>
  <dc:subject/>
  <dc:title>DDEのしくみ</dc:title>
</cp:coreProperties>
</file>