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F52-DE9D-4DD7-808E-3526ABD5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8A4-1EDF-49AD-8901-F0C1C49E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DFE-7088-4886-9360-606D1690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1F84-264D-4BA0-B71D-FBA60644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7308-80F3-4A99-ABC2-CBA907C5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6BE7-1296-4623-AC73-E18AD4EAA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062-AC07-447D-8D96-67EE0DFD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69D8-FE32-4B2E-80C6-E7E5118C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E97-9081-4F09-93DD-378DC110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1A14-F18A-4B49-A2F3-04B9BAB7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C243-05F6-4A88-B5E9-3BA98B3F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2421-3B65-4350-AEB9-D04D8789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8BDA-8B8D-43F1-98CC-AAB5793FB61C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TeraTerm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</a:rPr>
              <a:t>ライブラリ構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56000" y="981000"/>
            <a:ext cx="1512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ermp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067280" y="119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43280" y="981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40000" y="836640"/>
            <a:ext cx="3743280" cy="1152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627280" y="1557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TeraTerm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79640" y="472608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xssh.d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90920" y="4941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7280" y="472608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penS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78000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67280" y="5157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zl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8000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067280" y="5589720"/>
            <a:ext cx="129528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uT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63640" y="4581360"/>
            <a:ext cx="5616720" cy="1584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7964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SSH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モジュー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1413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64000" y="479736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暗号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64000" y="515772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圧縮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64000" y="5589720"/>
            <a:ext cx="144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ant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連携ライブラ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2637000"/>
            <a:ext cx="151272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ttpmacro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67280" y="2852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2637000"/>
            <a:ext cx="129564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niguru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492280"/>
            <a:ext cx="3743280" cy="1152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3213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マクロ本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06864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正規表現ライブラ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2:48:04Z</dcterms:created>
  <dc:creator>yutaka</dc:creator>
  <dc:description/>
  <dc:language>en-US</dc:language>
  <cp:lastModifiedBy>yutaka</cp:lastModifiedBy>
  <dcterms:modified xsi:type="dcterms:W3CDTF">2008-02-17T15:38:23Z</dcterms:modified>
  <cp:revision>78</cp:revision>
  <dc:subject/>
  <dc:title>TeraTermモジュール構成</dc:title>
</cp:coreProperties>
</file>