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3701-3928-4295-A290-F6F101E9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AB02-0DE7-4062-ABD7-2114B085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EC0C-0B62-4506-9021-8545DFC6E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E9C0-77FD-4450-B2E3-F2C9885DE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030C-18A5-4E1A-AB49-A6B805AF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1BE7-7D2A-43A8-8941-DACA4D19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9880-5208-4673-9BC2-021AD688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6890-ACA1-4DA4-A958-5028EDB9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3DC-BCDD-4197-92CC-CBC1A31E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C6A-28B2-413E-8F1B-F6D700BD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D8F-7BF8-4614-866A-F67FB539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6D33-5F13-46A1-A7EB-60766EB02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FB3-494F-4CE5-A983-A57835AE7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疑似端末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a 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40000" y="6922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6836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s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1341360"/>
            <a:ext cx="122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p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95640" y="1844640"/>
            <a:ext cx="1079640" cy="289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dev/tty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2000" y="134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557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0072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8360" y="836640"/>
            <a:ext cx="1008000" cy="576360"/>
          </a:xfrm>
          <a:prstGeom prst="wedgeRoundRectCallout">
            <a:avLst>
              <a:gd name="adj1" fmla="val -43384"/>
              <a:gd name="adj2" fmla="val 706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pty(3)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で疑似端末をオープ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50920" y="2565360"/>
            <a:ext cx="66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549360"/>
            <a:ext cx="0" cy="590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105264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227664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ユーザ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2637000"/>
            <a:ext cx="100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カーネル空間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2997360"/>
            <a:ext cx="115272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スター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m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299736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スレーブデバイ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ドライ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ty_slav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221000"/>
            <a:ext cx="115236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端末ライ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ィシプリ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N_T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03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357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71628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1125360"/>
            <a:ext cx="86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シェ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692280"/>
            <a:ext cx="3457440" cy="433080"/>
          </a:xfrm>
          <a:custGeom>
            <a:avLst/>
            <a:gdLst/>
            <a:ahLst/>
            <a:rect l="l" t="t" r="r" b="b"/>
            <a:pathLst>
              <a:path w="2178" h="273">
                <a:moveTo>
                  <a:pt x="91" y="273"/>
                </a:moveTo>
                <a:cubicBezTo>
                  <a:pt x="45" y="182"/>
                  <a:pt x="0" y="91"/>
                  <a:pt x="136" y="46"/>
                </a:cubicBezTo>
                <a:cubicBezTo>
                  <a:pt x="272" y="1"/>
                  <a:pt x="606" y="0"/>
                  <a:pt x="908" y="0"/>
                </a:cubicBezTo>
                <a:cubicBezTo>
                  <a:pt x="1210" y="0"/>
                  <a:pt x="1739" y="1"/>
                  <a:pt x="1951" y="46"/>
                </a:cubicBezTo>
                <a:cubicBezTo>
                  <a:pt x="2163" y="91"/>
                  <a:pt x="2170" y="182"/>
                  <a:pt x="2178" y="2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43640" y="260280"/>
            <a:ext cx="1152720" cy="576360"/>
          </a:xfrm>
          <a:prstGeom prst="wedgeRoundRectCallout">
            <a:avLst>
              <a:gd name="adj1" fmla="val -73689"/>
              <a:gd name="adj2" fmla="val 453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子プロセスとして起動す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80000" y="1844640"/>
            <a:ext cx="79236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t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80000" y="2276640"/>
            <a:ext cx="792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rite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155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200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2708280"/>
            <a:ext cx="79236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1200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1640" y="4005360"/>
            <a:ext cx="2520720" cy="115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 c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2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write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80000" y="3357720"/>
            <a:ext cx="25210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771640" y="1557360"/>
            <a:ext cx="144720" cy="287280"/>
          </a:xfrm>
          <a:prstGeom prst="line">
            <a:avLst/>
          </a:prstGeom>
          <a:ln w="38160">
            <a:solidFill>
              <a:srgbClr val="33339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1484280"/>
            <a:ext cx="863640" cy="360360"/>
          </a:xfrm>
          <a:prstGeom prst="line">
            <a:avLst/>
          </a:prstGeom>
          <a:ln w="38160">
            <a:solidFill>
              <a:srgbClr val="ff33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1200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1200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1844640"/>
            <a:ext cx="792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anf(3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93080" y="2276640"/>
            <a:ext cx="79200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32720" y="134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24720" y="134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24720" y="2060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2492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2708280"/>
            <a:ext cx="792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24720" y="3068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24720" y="3716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64360" y="4076640"/>
            <a:ext cx="79236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y_read(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5734080"/>
            <a:ext cx="1368360" cy="214200"/>
          </a:xfrm>
          <a:prstGeom prst="leftRightArrow">
            <a:avLst>
              <a:gd name="adj1" fmla="val 50000"/>
              <a:gd name="adj2" fmla="val 127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28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67280" y="5661000"/>
            <a:ext cx="1152360" cy="214200"/>
          </a:xfrm>
          <a:prstGeom prst="leftRightArrow">
            <a:avLst>
              <a:gd name="adj1" fmla="val 50000"/>
              <a:gd name="adj2" fmla="val 107098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6021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ウィンドウサイズ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K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9-07T11:23:16Z</dcterms:modified>
  <cp:revision>412</cp:revision>
  <dc:subject/>
  <dc:title>DDEのしくみ</dc:title>
</cp:coreProperties>
</file>