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1CE-09D3-47CA-BC3B-E699974B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BAEC-75FB-4F30-B881-1D6767C5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D4EA-BEA6-4A46-84B7-AEE10E82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3520" y="159516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3520" y="3965040"/>
            <a:ext cx="26503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2D3-FF48-41FC-82B6-DAD15028B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E6AB-DF4F-41DF-8F0F-6FB75262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32F-FF07-40A3-8AE0-441037111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D890-CE9B-4E80-ADCF-9EE6D00A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C70E-A5C8-4EFC-8E78-F4BD91E33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31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299-4351-409D-941C-4F455A56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3E9-5243-442A-9E85-786633D8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396504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6FE-FBA3-4C10-B250-26418E38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595160"/>
            <a:ext cx="401652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5040"/>
            <a:ext cx="8231040" cy="21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923-827A-4C8C-B7C4-870DB778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5160"/>
            <a:ext cx="82310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8600">
              <a:spcBef>
                <a:spcPts val="7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5960" indent="-228600">
              <a:spcBef>
                <a:spcPts val="77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5104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51040"/>
            <a:ext cx="213516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4F03-76C2-4A9B-8C23-8C2C50E58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833400"/>
            <a:ext cx="1008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CP/2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346040"/>
            <a:ext cx="2305080" cy="214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1.99-OpenSSH_4.3p2 Debian-9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274760"/>
            <a:ext cx="1440000" cy="357120"/>
          </a:xfrm>
          <a:prstGeom prst="wedgeRoundRectCallout">
            <a:avLst>
              <a:gd name="adj1" fmla="val 80652"/>
              <a:gd name="adj2" fmla="val 153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ージョン情報交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198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1703520"/>
            <a:ext cx="2305080" cy="2142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-2.0-TTSSH/2.46 Win32\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346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60720" y="206064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268360" y="2631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917720"/>
            <a:ext cx="1440000" cy="428760"/>
          </a:xfrm>
          <a:prstGeom prst="wedgeRoundRectCallout">
            <a:avLst>
              <a:gd name="adj1" fmla="val 80652"/>
              <a:gd name="adj2" fmla="val 10237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キー交換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00360" y="270360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2786040"/>
            <a:ext cx="1439640" cy="428760"/>
          </a:xfrm>
          <a:prstGeom prst="wedgeRoundRectCallout">
            <a:avLst>
              <a:gd name="adj1" fmla="val 70726"/>
              <a:gd name="adj2" fmla="val 1286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DH(Diffie-Hellman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鍵の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268360" y="3429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31431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00360" y="350028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37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857760"/>
            <a:ext cx="2519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_DH_GEX_RE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268360" y="4156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2720" y="3000240"/>
            <a:ext cx="144360" cy="122724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7240"/>
              <a:gd name="textAreaBottom" fmla="*/ 1195560 h 122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771640" y="43704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2268360" y="4656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268360" y="5013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60720" y="2417760"/>
            <a:ext cx="1509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KEX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71640" y="47275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NEWKE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727520"/>
            <a:ext cx="1439640" cy="428760"/>
          </a:xfrm>
          <a:prstGeom prst="wedgeRoundRectCallout">
            <a:avLst>
              <a:gd name="adj1" fmla="val 99504"/>
              <a:gd name="adj2" fmla="val -56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生成終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24360" y="5227560"/>
            <a:ext cx="289080" cy="1297080"/>
          </a:xfrm>
          <a:prstGeom prst="downArrow">
            <a:avLst>
              <a:gd name="adj1" fmla="val 50000"/>
              <a:gd name="adj2" fmla="val 11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5299200"/>
            <a:ext cx="2519640" cy="725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れ以降はパケット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鍵（共通鍵）で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暗号化されるため、パケットキャプチ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不可と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584680"/>
            <a:ext cx="1440000" cy="439920"/>
          </a:xfrm>
          <a:prstGeom prst="wedgeRoundRectCallout">
            <a:avLst>
              <a:gd name="adj1" fmla="val 94541"/>
              <a:gd name="adj2" fmla="val -4779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開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529920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268360" y="5584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5656320"/>
            <a:ext cx="2233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SERVICE_ACCEP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268360" y="59529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5227560"/>
            <a:ext cx="4103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3786120"/>
            <a:ext cx="1439640" cy="441360"/>
          </a:xfrm>
          <a:prstGeom prst="wedgeRoundRectCallout">
            <a:avLst>
              <a:gd name="adj1" fmla="val 90023"/>
              <a:gd name="adj2" fmla="val 29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known_hosts”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チェ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ログインシーケンス（続き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68360" y="11970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90480"/>
            <a:ext cx="1440000" cy="441360"/>
          </a:xfrm>
          <a:prstGeom prst="wedgeRoundRectCallout">
            <a:avLst>
              <a:gd name="adj1" fmla="val 80097"/>
              <a:gd name="adj2" fmla="val 657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27280" y="1268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USERAUTH_FAIL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17002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1986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628640"/>
            <a:ext cx="1440000" cy="4287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名とパスワードを送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700360" y="21286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68360" y="24145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0320"/>
            <a:ext cx="1439640" cy="36828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00360" y="2565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68360" y="28512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637000"/>
            <a:ext cx="1440000" cy="357120"/>
          </a:xfrm>
          <a:prstGeom prst="wedgeRoundRectCallout">
            <a:avLst>
              <a:gd name="adj1" fmla="val 81754"/>
              <a:gd name="adj2" fmla="val 2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セッション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ss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2924280"/>
            <a:ext cx="3095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OPEN_CONFI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268360" y="3208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99888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4284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39988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シェルリクエス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ty-req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00360" y="43560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268360" y="4654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4726080"/>
            <a:ext cx="24498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50115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4726080"/>
            <a:ext cx="1440000" cy="357120"/>
          </a:xfrm>
          <a:prstGeom prst="wedgeRoundRectCallout">
            <a:avLst>
              <a:gd name="adj1" fmla="val 77893"/>
              <a:gd name="adj2" fmla="val 25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ell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68360" y="54403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154480"/>
            <a:ext cx="28083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WINDOW_ADJ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4940280"/>
            <a:ext cx="1800360" cy="571680"/>
          </a:xfrm>
          <a:prstGeom prst="wedgeRoundRectCallout">
            <a:avLst>
              <a:gd name="adj1" fmla="val -68342"/>
              <a:gd name="adj2" fmla="val 3928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ウィンドウサイズ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00360" y="55119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268360" y="57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00360" y="594036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2268360" y="623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24360" y="5797440"/>
            <a:ext cx="1800360" cy="511200"/>
          </a:xfrm>
          <a:prstGeom prst="wedgeRoundRectCallout">
            <a:avLst>
              <a:gd name="adj1" fmla="val -68342"/>
              <a:gd name="adj2" fmla="val 3773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情報を送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03280" y="6165720"/>
            <a:ext cx="792360" cy="142920"/>
          </a:xfrm>
          <a:prstGeom prst="leftArrow">
            <a:avLst>
              <a:gd name="adj1" fmla="val 50000"/>
              <a:gd name="adj2" fmla="val 13860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5297400"/>
            <a:ext cx="1440000" cy="714600"/>
          </a:xfrm>
          <a:prstGeom prst="wedgeRoundRectCallout">
            <a:avLst>
              <a:gd name="adj1" fmla="val 33902"/>
              <a:gd name="adj2" fmla="val 7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渡す。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えには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cv()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返ったように見え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6000" y="905040"/>
            <a:ext cx="2808360" cy="583920"/>
          </a:xfrm>
          <a:prstGeom prst="wedgeRoundRectCallout">
            <a:avLst>
              <a:gd name="adj1" fmla="val -54185"/>
              <a:gd name="adj2" fmla="val 15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CheckAuthListFirs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無効なときは、クライアントはユーザ操作による認証失敗により認証リストを得られる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8720" y="976320"/>
            <a:ext cx="152280" cy="652320"/>
          </a:xfrm>
          <a:custGeom>
            <a:avLst/>
            <a:gdLst>
              <a:gd name="textAreaLeft" fmla="*/ 0 w 152280"/>
              <a:gd name="textAreaRight" fmla="*/ 55080 w 152280"/>
              <a:gd name="textAreaTop" fmla="*/ 16920 h 652320"/>
              <a:gd name="textAreaBottom" fmla="*/ 635400 h 65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1773360"/>
            <a:ext cx="142920" cy="784080"/>
          </a:xfrm>
          <a:custGeom>
            <a:avLst/>
            <a:gdLst>
              <a:gd name="textAreaLeft" fmla="*/ 0 w 142920"/>
              <a:gd name="textAreaRight" fmla="*/ 51480 w 142920"/>
              <a:gd name="textAreaTop" fmla="*/ 20160 h 784080"/>
              <a:gd name="textAreaBottom" fmla="*/ 763920 h 78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6000" y="2703600"/>
            <a:ext cx="1800360" cy="296640"/>
          </a:xfrm>
          <a:prstGeom prst="wedgeRoundRectCallout">
            <a:avLst>
              <a:gd name="adj1" fmla="val -59083"/>
              <a:gd name="adj2" fmla="val -23395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ssword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の場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32846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35701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3213000"/>
            <a:ext cx="1440000" cy="576360"/>
          </a:xfrm>
          <a:prstGeom prst="wedgeRoundRectCallout">
            <a:avLst>
              <a:gd name="adj1" fmla="val 80759"/>
              <a:gd name="adj2" fmla="val 1115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エージェント転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"auth-agent-req@openssh.com"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363852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2268360" y="3924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08720" y="3429000"/>
            <a:ext cx="142920" cy="64764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6000" y="4141800"/>
            <a:ext cx="1871640" cy="297000"/>
          </a:xfrm>
          <a:prstGeom prst="wedgeRoundRectCallout">
            <a:avLst>
              <a:gd name="adj1" fmla="val -57717"/>
              <a:gd name="adj2" fmla="val -1826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ForwardAge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有効なと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72360" y="1773360"/>
            <a:ext cx="1800000" cy="571320"/>
          </a:xfrm>
          <a:prstGeom prst="wedgeRoundRectCallout">
            <a:avLst>
              <a:gd name="adj1" fmla="val -102379"/>
              <a:gd name="adj2" fmla="val -9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リストの送信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ilur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返すがサーバにはログは残ら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切断シーケン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09800" y="333360"/>
            <a:ext cx="93672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333360"/>
            <a:ext cx="936360" cy="5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6836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435640" y="905040"/>
            <a:ext cx="0" cy="569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12034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268360" y="16318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80" y="833400"/>
            <a:ext cx="1440000" cy="441360"/>
          </a:xfrm>
          <a:prstGeom prst="wedgeRoundRectCallout">
            <a:avLst>
              <a:gd name="adj1" fmla="val 80097"/>
              <a:gd name="adj2" fmla="val 324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上でログアウト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905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2_MSG_CHANNEL_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3460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17748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E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360" y="2060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27280" y="227484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CHANNEL_CLO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268360" y="256068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7280" y="2703600"/>
            <a:ext cx="24494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MSG_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268360" y="30002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2060640"/>
            <a:ext cx="1439640" cy="868320"/>
          </a:xfrm>
          <a:prstGeom prst="wedgeRoundRectCallout">
            <a:avLst>
              <a:gd name="adj1" fmla="val 47023"/>
              <a:gd name="adj2" fmla="val 619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セッションのクローズ処理を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本体へ終了の通知を出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3000240"/>
            <a:ext cx="792000" cy="142920"/>
          </a:xfrm>
          <a:prstGeom prst="leftArrow">
            <a:avLst>
              <a:gd name="adj1" fmla="val 50000"/>
              <a:gd name="adj2" fmla="val 13853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2-03T08:01:51Z</dcterms:modified>
  <cp:revision>321</cp:revision>
  <dc:subject/>
  <dc:title>DDEのしくみ</dc:title>
</cp:coreProperties>
</file>