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C0A0-B31B-4E36-90AB-3E0996652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003F-F822-45C0-B09D-185E3799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B2FF-B43E-443C-AA05-CC7F9FC72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E7B1-CBDE-4231-B6A7-D081DF8C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A41D-8DC8-4B2A-9BC6-56DE8FF76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DD48-B75F-44CE-BEB6-CBC53E6A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283F-F0AB-4ECE-8A5E-3407E57A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72F9-4B4C-4A70-9B88-AF02536F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462-1892-4CE1-B7C7-B3781A6E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0D62-9270-43ED-9A32-E4817E1D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910-E20F-4E5F-A5A8-69178E43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FDDC-662E-40D3-A720-8422B45C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B7B1-4F66-427D-94A8-6CFE9C23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の受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34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90792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413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260280"/>
            <a:ext cx="1440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620640"/>
            <a:ext cx="2303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51280" y="549360"/>
            <a:ext cx="115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84720" y="620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v-&gt;InBuf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836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v(s, buf, len, 0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76720" y="549360"/>
            <a:ext cx="230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80000" y="33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024)by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6836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24360" y="620640"/>
            <a:ext cx="935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32240" y="655560"/>
            <a:ext cx="3192120" cy="469800"/>
          </a:xfrm>
          <a:custGeom>
            <a:avLst/>
            <a:gdLst/>
            <a:ahLst/>
            <a:rect l="l" t="t" r="r" b="b"/>
            <a:pathLst>
              <a:path w="2154" h="311">
                <a:moveTo>
                  <a:pt x="106" y="205"/>
                </a:moveTo>
                <a:cubicBezTo>
                  <a:pt x="53" y="125"/>
                  <a:pt x="0" y="46"/>
                  <a:pt x="151" y="23"/>
                </a:cubicBezTo>
                <a:cubicBezTo>
                  <a:pt x="302" y="0"/>
                  <a:pt x="711" y="23"/>
                  <a:pt x="1013" y="69"/>
                </a:cubicBezTo>
                <a:cubicBezTo>
                  <a:pt x="1315" y="115"/>
                  <a:pt x="1776" y="281"/>
                  <a:pt x="1965" y="296"/>
                </a:cubicBezTo>
                <a:cubicBezTo>
                  <a:pt x="2154" y="311"/>
                  <a:pt x="2150" y="235"/>
                  <a:pt x="2147" y="15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24360" y="98100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98100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6000" y="148428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X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16000" y="2060640"/>
            <a:ext cx="1511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T_recv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7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68360" y="112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0000" y="558972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0000" y="5661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6308640"/>
            <a:ext cx="309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buflen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sz="1000" spc="-1" strike="noStrike">
                <a:solidFill>
                  <a:srgbClr val="000000"/>
                </a:solidFill>
                <a:latin typeface="Arial"/>
              </a:rPr>
              <a:t>READAMOU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 = 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6237360"/>
            <a:ext cx="453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780000" y="558972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780000" y="544500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00720" y="515772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5640" y="6165720"/>
            <a:ext cx="2448000" cy="503280"/>
          </a:xfrm>
          <a:prstGeom prst="wedgeRoundRectCallout">
            <a:avLst>
              <a:gd name="adj1" fmla="val 75745"/>
              <a:gd name="adj2" fmla="val -9100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受信し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実パケット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" y="5157720"/>
            <a:ext cx="165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pkt_state.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80000" y="530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08720" y="479736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80000" y="429264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80000" y="429264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80000" y="429264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89360"/>
            <a:ext cx="1657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24360" y="393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2436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800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4360" y="4149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95640" y="3860640"/>
            <a:ext cx="201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80000" y="472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67280" y="4797360"/>
            <a:ext cx="129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otal_packet_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435640" y="3429000"/>
            <a:ext cx="28728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80000" y="2781360"/>
            <a:ext cx="4537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80000" y="2781360"/>
            <a:ext cx="3240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780000" y="2781360"/>
            <a:ext cx="2087280" cy="36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2436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781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38560" y="2781360"/>
            <a:ext cx="647640" cy="3603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67280" y="2276640"/>
            <a:ext cx="24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08360" y="184464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payload_data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2436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73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2349360"/>
            <a:ext cx="2651040" cy="1187640"/>
          </a:xfrm>
          <a:custGeom>
            <a:avLst/>
            <a:gdLst/>
            <a:ahLst/>
            <a:rect l="l" t="t" r="r" b="b"/>
            <a:pathLst>
              <a:path w="1670" h="748">
                <a:moveTo>
                  <a:pt x="53" y="0"/>
                </a:moveTo>
                <a:cubicBezTo>
                  <a:pt x="26" y="189"/>
                  <a:pt x="0" y="378"/>
                  <a:pt x="189" y="499"/>
                </a:cubicBezTo>
                <a:cubicBezTo>
                  <a:pt x="378" y="620"/>
                  <a:pt x="953" y="702"/>
                  <a:pt x="1187" y="725"/>
                </a:cubicBezTo>
                <a:cubicBezTo>
                  <a:pt x="1421" y="748"/>
                  <a:pt x="1520" y="688"/>
                  <a:pt x="1595" y="635"/>
                </a:cubicBezTo>
                <a:cubicBezTo>
                  <a:pt x="1670" y="582"/>
                  <a:pt x="1655" y="495"/>
                  <a:pt x="1640" y="4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4437000"/>
            <a:ext cx="2447640" cy="576360"/>
          </a:xfrm>
          <a:prstGeom prst="wedgeRoundRectCallout">
            <a:avLst>
              <a:gd name="adj1" fmla="val 75745"/>
              <a:gd name="adj2" fmla="val -48347"/>
              <a:gd name="adj3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つ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解析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2924280"/>
            <a:ext cx="1800000" cy="576000"/>
          </a:xfrm>
          <a:prstGeom prst="wedgeRoundRectCallout">
            <a:avLst>
              <a:gd name="adj1" fmla="val 74513"/>
              <a:gd name="adj2" fmla="val 13083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渡されてきたプレーンデータを返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8-17T15:12:43Z</dcterms:modified>
  <cp:revision>343</cp:revision>
  <dc:subject/>
  <dc:title>DDEのしくみ</dc:title>
</cp:coreProperties>
</file>