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F710-08CD-4A38-8ED4-43DFF614F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3C2E-3084-416A-9FBF-336C472F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EC3-FDBF-4083-9F1C-3298FEBB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B41-C8A3-455D-BDEC-12370D9B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94D6-863C-45B0-A9A0-9599DD46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EFA-38F4-48C7-8D90-DA0257D1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C4B-2F97-4090-96EF-0EB5627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95F-750C-4C79-8AF6-7966554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027-A802-4E04-810C-EE1ABAFD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56E2-68D6-44BA-9AE6-4A5DB290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BBB3-3B40-4005-A11D-6BA265B3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17E-949E-44CC-BB23-132D30F5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707A-B33D-4BB6-AEDA-D9AF93A81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6000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keyboard-interac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69372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148360" y="69372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435640" y="1268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68360" y="15573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71640" y="131292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268360" y="1917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71640" y="168120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1628640"/>
            <a:ext cx="1440000" cy="358920"/>
          </a:xfrm>
          <a:prstGeom prst="wedgeRoundRectCallout">
            <a:avLst>
              <a:gd name="adj1" fmla="val 80652"/>
              <a:gd name="adj2" fmla="val 12743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パスワード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268360" y="22766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204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INFO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268360" y="266076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71640" y="242100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2349360"/>
            <a:ext cx="1440000" cy="360360"/>
          </a:xfrm>
          <a:prstGeom prst="wedgeRoundRectCallout">
            <a:avLst>
              <a:gd name="adj1" fmla="val 80652"/>
              <a:gd name="adj2" fmla="val 3590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認証成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96000" y="1628640"/>
            <a:ext cx="1440000" cy="362160"/>
          </a:xfrm>
          <a:prstGeom prst="wedgeRoundRectCallout">
            <a:avLst>
              <a:gd name="adj1" fmla="val -72930"/>
              <a:gd name="adj2" fmla="val 32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プロンプト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68360" y="48974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465300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268360" y="525780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71640" y="502272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68360" y="561672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771640" y="53816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268360" y="6000840"/>
            <a:ext cx="316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761080"/>
            <a:ext cx="23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571920"/>
            <a:ext cx="77724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ja-JP" sz="1400" spc="-1" strike="noStrike" u="sng">
                <a:solidFill>
                  <a:srgbClr val="000000"/>
                </a:solidFill>
                <a:uFillTx/>
                <a:latin typeface="Arial"/>
              </a:rPr>
              <a:t>(publicke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35640" y="4508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8000" y="393228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932280"/>
            <a:ext cx="936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4219560"/>
            <a:ext cx="1440000" cy="358920"/>
          </a:xfrm>
          <a:prstGeom prst="wedgeRoundRectCallout">
            <a:avLst>
              <a:gd name="adj1" fmla="val 81203"/>
              <a:gd name="adj2" fmla="val 14026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96000" y="4579920"/>
            <a:ext cx="1655640" cy="361800"/>
          </a:xfrm>
          <a:prstGeom prst="wedgeRoundRectCallout">
            <a:avLst>
              <a:gd name="adj1" fmla="val -71666"/>
              <a:gd name="adj2" fmla="val 4210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300640"/>
            <a:ext cx="1584360" cy="432000"/>
          </a:xfrm>
          <a:prstGeom prst="wedgeRoundRectCallout">
            <a:avLst>
              <a:gd name="adj1" fmla="val 68435"/>
              <a:gd name="adj2" fmla="val 22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96000" y="5227560"/>
            <a:ext cx="1655640" cy="433440"/>
          </a:xfrm>
          <a:prstGeom prst="wedgeRoundRectCallout">
            <a:avLst>
              <a:gd name="adj1" fmla="val -71861"/>
              <a:gd name="adj2" fmla="val 4340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5960" y="21564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2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の認証シーケンス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(Pagea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588000" y="549360"/>
            <a:ext cx="93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OpenSS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0072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9308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60360" y="549360"/>
            <a:ext cx="10080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エージェ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age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052640"/>
            <a:ext cx="0" cy="55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00720" y="301320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43280" y="2768760"/>
            <a:ext cx="230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500720" y="337356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3280" y="313848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PK_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4500720" y="577692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43280" y="554184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500720" y="6161040"/>
            <a:ext cx="258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72080" y="5921280"/>
            <a:ext cx="230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_MSG_USERAUTH_SU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700360" y="5605560"/>
            <a:ext cx="1440000" cy="431640"/>
          </a:xfrm>
          <a:prstGeom prst="wedgeRoundRectCallout">
            <a:avLst>
              <a:gd name="adj1" fmla="val 75356"/>
              <a:gd name="adj2" fmla="val -8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2695680"/>
            <a:ext cx="1656000" cy="361800"/>
          </a:xfrm>
          <a:prstGeom prst="wedgeRoundRectCallout">
            <a:avLst>
              <a:gd name="adj1" fmla="val -65342"/>
              <a:gd name="adj2" fmla="val 368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uthorized_keys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と照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08720" y="5389560"/>
            <a:ext cx="1656000" cy="433440"/>
          </a:xfrm>
          <a:prstGeom prst="wedgeRoundRectCallout">
            <a:avLst>
              <a:gd name="adj1" fmla="val -64379"/>
              <a:gd name="adj2" fmla="val 412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と、署名され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検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63640" y="210492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79640" y="186048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IDENTITIES_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763280" y="166356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79640" y="1428840"/>
            <a:ext cx="230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REQUEST_IDENT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50012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登録された公開鍵をすべて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84720" y="2797200"/>
            <a:ext cx="142920" cy="719280"/>
          </a:xfrm>
          <a:custGeom>
            <a:avLst/>
            <a:gdLst>
              <a:gd name="textAreaLeft" fmla="*/ 91440 w 142920"/>
              <a:gd name="textAreaRight" fmla="*/ 1432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050920" y="3373560"/>
            <a:ext cx="2160720" cy="431640"/>
          </a:xfrm>
          <a:prstGeom prst="wedgeRoundRectCallout">
            <a:avLst>
              <a:gd name="adj1" fmla="val 52425"/>
              <a:gd name="adj2" fmla="val -101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K_OK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返るまで、エージェントからの公開鍵をすべて試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63640" y="505764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79640" y="481320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_SIGN_RESPON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63280" y="4616280"/>
            <a:ext cx="273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79640" y="4381560"/>
            <a:ext cx="2305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2_AGENTC_SIGN_REQU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1284120"/>
            <a:ext cx="1150920" cy="360360"/>
          </a:xfrm>
          <a:prstGeom prst="wedgeRoundRectCallout">
            <a:avLst>
              <a:gd name="adj1" fmla="val -70689"/>
              <a:gd name="adj2" fmla="val 5968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21200"/>
            <a:ext cx="1150920" cy="431640"/>
          </a:xfrm>
          <a:prstGeom prst="wedgeRoundRectCallout">
            <a:avLst>
              <a:gd name="adj1" fmla="val -70138"/>
              <a:gd name="adj2" fmla="val 88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渡して署名を要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4452840"/>
            <a:ext cx="1296720" cy="432000"/>
          </a:xfrm>
          <a:prstGeom prst="wedgeRoundRectCallout">
            <a:avLst>
              <a:gd name="adj1" fmla="val 65791"/>
              <a:gd name="adj2" fmla="val 875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秘密鍵で署名した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771640" y="2581200"/>
            <a:ext cx="1440000" cy="358920"/>
          </a:xfrm>
          <a:prstGeom prst="wedgeRoundRectCallout">
            <a:avLst>
              <a:gd name="adj1" fmla="val 70949"/>
              <a:gd name="adj2" fmla="val 654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公開鍵を送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maya</cp:lastModifiedBy>
  <dcterms:modified xsi:type="dcterms:W3CDTF">2008-11-26T08:33:54Z</dcterms:modified>
  <cp:revision>335</cp:revision>
  <dc:subject/>
  <dc:title>DDEのしくみ</dc:title>
</cp:coreProperties>
</file>