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1ABC-049C-4DBC-8058-DF6FEAD76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FB72-B0DF-43B8-B045-0E798FF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D4B7-1C80-41CC-AE54-1887192F9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252-EF9C-49EB-8CB0-515DF16F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A5C-F283-439C-80F7-CD89F870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B0D-80D5-489B-B39D-82C5B1E80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FB4-9A3A-4F55-8E1A-BAE4B6EA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7A05-0A8F-4C57-A9C8-6A353FA85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1C4C-3E9A-44AB-94A3-723556367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A35B-BBE0-407A-A305-DE5F198FF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0F4-05C2-41CB-8C7E-0EDED565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977-417E-4550-B81C-F5320F0E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A0AC-19F6-4038-8AAC-78485559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フロー制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41480" y="1341360"/>
            <a:ext cx="1225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使用中およびログ採取時は、バッファへ格納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フルになると、最古のデータから上書き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で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の中身を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すべて、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マクロ（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クライアント）へ送信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のデータをすべてリングバッファとして保存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5661000"/>
            <a:ext cx="3744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コマンド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ync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で、同期されるの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マクロ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信間のみ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リモートホストから大量にパケットが送られてき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ときは、データの取りこぼしが発生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1T13:09:57Z</dcterms:modified>
  <cp:revision>157</cp:revision>
  <dc:subject/>
  <dc:title>DDEのしくみ</dc:title>
</cp:coreProperties>
</file>