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EDD3-BEE6-4701-92EB-189F4710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EA0-FCBE-4D8C-9EFA-26882B9A7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82F-5390-472C-AE14-6573C31E8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3C64-6AA8-474D-BB7F-92051B92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479-DEEC-41FE-849C-1C1D6FB6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E96-FFAE-45FF-9577-14F77530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9B7-A51D-454C-8466-78B9827F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0E8-E759-4877-8978-0F8C67B3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012-512D-4C1C-BCAA-3F87C392D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3B45-674E-42A9-89C6-247F7A11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A79A-DE46-4532-A95F-3AC35D08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705-3F47-48BD-BE2D-39AD3373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CFFDD-BFA5-44D9-BB29-91406053B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low control between TeraTerm and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765000"/>
            <a:ext cx="115236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te h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25480" y="105264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2560" y="765000"/>
            <a:ext cx="230328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aTer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ermp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98920" y="1052640"/>
            <a:ext cx="144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1840" y="1413000"/>
            <a:ext cx="100836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25480" y="1628640"/>
            <a:ext cx="187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1341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recei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698920" y="213372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2421000"/>
            <a:ext cx="1368360" cy="1152360"/>
          </a:xfrm>
          <a:prstGeom prst="wedgeRoundRectCallout">
            <a:avLst>
              <a:gd name="adj1" fmla="val 69143"/>
              <a:gd name="adj2" fmla="val -7424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CP packet is stored in the cyclic buffer. When the buffer is full, the oldest data is overwritten by the latest dat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565360"/>
            <a:ext cx="648000" cy="503280"/>
          </a:xfrm>
          <a:custGeom>
            <a:avLst/>
            <a:gdLst>
              <a:gd name="textAreaLeft" fmla="*/ 86760 w 648000"/>
              <a:gd name="textAreaRight" fmla="*/ 561240 w 648000"/>
              <a:gd name="textAreaTop" fmla="*/ 87840 h 503280"/>
              <a:gd name="textAreaBottom" fmla="*/ 3650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2637000"/>
            <a:ext cx="1079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900" spc="-1" strike="noStrike">
                <a:solidFill>
                  <a:srgbClr val="000000"/>
                </a:solidFill>
                <a:latin typeface="Arial"/>
              </a:rPr>
              <a:t>XTYP_ADVREQ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796000" y="765000"/>
            <a:ext cx="2736720" cy="2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 program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tpmacro.ex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88000" y="1052640"/>
            <a:ext cx="0" cy="41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27640" y="1413000"/>
            <a:ext cx="144360" cy="936360"/>
          </a:xfrm>
          <a:custGeom>
            <a:avLst/>
            <a:gdLst>
              <a:gd name="textAreaLeft" fmla="*/ 0 w 144360"/>
              <a:gd name="textAreaRight" fmla="*/ 52200 w 14436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3280" y="1916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1640" y="3141720"/>
            <a:ext cx="1368720" cy="28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ise lo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40360" y="3284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932360" y="191592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87640" y="3789360"/>
            <a:ext cx="1368360" cy="1008000"/>
          </a:xfrm>
          <a:prstGeom prst="wedgeRoundRectCallout">
            <a:avLst>
              <a:gd name="adj1" fmla="val -3944"/>
              <a:gd name="adj2" fmla="val -846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ll buffer data is sent to the macro program while doing DDE advise loo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8720" y="1413000"/>
            <a:ext cx="1079640" cy="21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DE buff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6K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588000" y="2276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565360"/>
            <a:ext cx="1368360" cy="934920"/>
          </a:xfrm>
          <a:prstGeom prst="wedgeRoundRectCallout">
            <a:avLst>
              <a:gd name="adj1" fmla="val 73087"/>
              <a:gd name="adj2" fmla="val -773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received DDE data is stored in the cyclic buff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71640" y="5300640"/>
            <a:ext cx="3816360" cy="216000"/>
          </a:xfrm>
          <a:prstGeom prst="leftRightArrow">
            <a:avLst>
              <a:gd name="adj1" fmla="val 50000"/>
              <a:gd name="adj2" fmla="val 3517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5661000"/>
            <a:ext cx="4176720" cy="792360"/>
          </a:xfrm>
          <a:prstGeom prst="roundRect">
            <a:avLst>
              <a:gd name="adj" fmla="val 16667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‘</a:t>
            </a: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setsync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’ macro command, this range is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nchronization between TeraTerm and Macro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emote host sends a lot of packet to the client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cket lost will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1:38:57Z</dcterms:created>
  <dc:creator>yutaka</dc:creator>
  <dc:description/>
  <dc:language>en-US</dc:language>
  <cp:lastModifiedBy>yutaka</cp:lastModifiedBy>
  <dcterms:modified xsi:type="dcterms:W3CDTF">2008-10-15T16:03:10Z</dcterms:modified>
  <cp:revision>184</cp:revision>
  <dc:subject/>
  <dc:title>DDEのしくみ</dc:title>
</cp:coreProperties>
</file>