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717-3B53-4921-A8BC-7AC667F5D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0721-5DE8-448C-8E1F-F060B7BA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A5E-C484-47AB-9167-EDEB7F61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B48C-21B6-4669-B3C1-BC22A23B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5877-A24A-4F79-BE24-8E8A6398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B829-071C-4E8E-AC54-47D8E041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B0CD-76AC-4E15-B717-755F0A8E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DB01-7A1E-4E89-8143-3D08F382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D3A1-D4B6-4E63-9EB1-CF42B5B3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ED58-EDD3-490D-87DA-1729159E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3A74-59BE-4FB6-B9E0-500200D21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F375-E369-45D1-AA98-6BDDE880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F10-DA36-4F9B-8283-57C63A65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SH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Arial"/>
              </a:rPr>
              <a:t>による接続処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76360" y="90792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OpenTC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9079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58920" y="404640"/>
            <a:ext cx="0" cy="626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76360" y="33336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TS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940360" y="549360"/>
          <a:ext cx="2664000" cy="1214280"/>
        </p:xfrm>
        <a:graphic>
          <a:graphicData uri="http://schemas.openxmlformats.org/drawingml/2006/table">
            <a:tbl>
              <a:tblPr/>
              <a:tblGrid>
                <a:gridCol w="1224000"/>
                <a:gridCol w="14400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元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フック先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conn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rec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se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TXWSAAsyncSel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2627280" y="692280"/>
            <a:ext cx="649440" cy="576000"/>
          </a:xfrm>
          <a:prstGeom prst="wedgeRoundRectCallout">
            <a:avLst>
              <a:gd name="adj1" fmla="val -78606"/>
              <a:gd name="adj2" fmla="val 2768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ソケット関数のフッ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700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SAAsync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2492280"/>
            <a:ext cx="86328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126828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2133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92360" y="170028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1557360"/>
            <a:ext cx="1008000" cy="503280"/>
          </a:xfrm>
          <a:prstGeom prst="wedgeRoundRectCallout">
            <a:avLst>
              <a:gd name="adj1" fmla="val -68425"/>
              <a:gd name="adj2" fmla="val 244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前は何もしな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92360" y="249228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421000"/>
            <a:ext cx="2160720" cy="576360"/>
          </a:xfrm>
          <a:prstGeom prst="wedgeRoundRectCallout">
            <a:avLst>
              <a:gd name="adj1" fmla="val -55509"/>
              <a:gd name="adj2" fmla="val -34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接続を行う。接続成功すると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D_CONNEC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メッセージが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へ飛ぶ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306864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321300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Op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3573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93372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St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4149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933720"/>
            <a:ext cx="1295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WSAAsyncSe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403280" y="3141720"/>
            <a:ext cx="1368360" cy="574560"/>
          </a:xfrm>
          <a:prstGeom prst="wedgeRoundRectCallout">
            <a:avLst>
              <a:gd name="adj1" fmla="val -101277"/>
              <a:gd name="adj2" fmla="val 8812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 | FD_OOB | FD_CLOSE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16360" y="4149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800" spc="-1" strike="noStrike">
                <a:solidFill>
                  <a:srgbClr val="000000"/>
                </a:solidFill>
                <a:latin typeface="Arial"/>
              </a:rPr>
              <a:t>AUTH_advance_to_next_cr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9280" y="4149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3933720"/>
            <a:ext cx="1511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tart_user_au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940360" y="3213000"/>
            <a:ext cx="1440000" cy="503280"/>
          </a:xfrm>
          <a:prstGeom prst="wedgeRoundRectCallout">
            <a:avLst>
              <a:gd name="adj1" fmla="val -56175"/>
              <a:gd name="adj2" fmla="val 954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認証ダイアログを表示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58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nCommNotif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4941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530064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ProcRR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4365720"/>
            <a:ext cx="72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D_RE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6021360"/>
            <a:ext cx="863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Rece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16000" y="6237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6021360"/>
            <a:ext cx="936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TTX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4581360"/>
            <a:ext cx="1872000" cy="576360"/>
          </a:xfrm>
          <a:prstGeom prst="wedgeRoundRectCallout">
            <a:avLst>
              <a:gd name="adj1" fmla="val -80023"/>
              <a:gd name="adj2" fmla="val -11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番始めは”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tocol Version Exchange”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がサーバより送られてく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87640" y="6021360"/>
            <a:ext cx="93672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PKT_rec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24360" y="616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56000" y="6021360"/>
            <a:ext cx="1584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SSH_handle_server_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300640"/>
            <a:ext cx="2592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SH-2.0-TTSSH/2.46 Win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227640" y="5950080"/>
            <a:ext cx="2089440" cy="647640"/>
          </a:xfrm>
          <a:prstGeom prst="wedgeRoundRectCallout">
            <a:avLst>
              <a:gd name="adj1" fmla="val -61851"/>
              <a:gd name="adj2" fmla="val -193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バージョン情報を検証後、クライアン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TTSSH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バージョン情報をサーバへ送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2997360"/>
            <a:ext cx="900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D_CONN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3-09T15:52:49Z</dcterms:modified>
  <cp:revision>222</cp:revision>
  <dc:subject/>
  <dc:title>DDEのしくみ</dc:title>
</cp:coreProperties>
</file>