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C484-3C23-4194-99CE-A6354D92C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0CAA-B70A-47A7-B0F3-6EA3FAC9B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94D6-9DEC-44FE-AD0C-902B9BDA6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D064-BF34-4802-9013-BFD02C852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D5C3-44CF-4354-A48C-EBB3B79FD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14AA-AC82-44AC-A4F5-24B6E0A9E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2227-EBF4-4382-8FE2-568BAF2E6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F602-D8BE-4F2C-BE9F-93BB648CE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883C-17DC-4376-9BC9-B136A35DF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2430-9789-499C-B9B2-3E3CBCB3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4B95-DAD3-4C9D-916E-16A94049A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438E-806D-45DF-BB55-E92835E97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36A75-B2F7-4508-9819-3F95AABC77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833400"/>
            <a:ext cx="1008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346040"/>
            <a:ext cx="2305080" cy="214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1.99-OpenSSH_4.3p2 Debian-9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274760"/>
            <a:ext cx="1440000" cy="357120"/>
          </a:xfrm>
          <a:prstGeom prst="wedgeRoundRectCallout">
            <a:avLst>
              <a:gd name="adj1" fmla="val 80652"/>
              <a:gd name="adj2" fmla="val 15398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ージョン情報交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198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1703520"/>
            <a:ext cx="2305080" cy="214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2.0-TTSSH/2.46 Win32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346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60720" y="206064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268360" y="2631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917720"/>
            <a:ext cx="1440000" cy="428760"/>
          </a:xfrm>
          <a:prstGeom prst="wedgeRoundRectCallout">
            <a:avLst>
              <a:gd name="adj1" fmla="val 80652"/>
              <a:gd name="adj2" fmla="val 10237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キー交換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00360" y="270360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2786040"/>
            <a:ext cx="1439640" cy="428760"/>
          </a:xfrm>
          <a:prstGeom prst="wedgeRoundRectCallout">
            <a:avLst>
              <a:gd name="adj1" fmla="val 70726"/>
              <a:gd name="adj2" fmla="val 1286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DH(Diffie-Hellman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鍵の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268360" y="342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00360" y="31431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350028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37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38577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268360" y="4156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2720" y="3000240"/>
            <a:ext cx="144360" cy="1227240"/>
          </a:xfrm>
          <a:custGeom>
            <a:avLst/>
            <a:gdLst>
              <a:gd name="textAreaLeft" fmla="*/ 92160 w 144360"/>
              <a:gd name="textAreaRight" fmla="*/ 144360 w 144360"/>
              <a:gd name="textAreaTop" fmla="*/ 31680 h 1227240"/>
              <a:gd name="textAreaBottom" fmla="*/ 1195560 h 122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43704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268360" y="4656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268360" y="5013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60720" y="241776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71640" y="47275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727520"/>
            <a:ext cx="1439640" cy="428760"/>
          </a:xfrm>
          <a:prstGeom prst="wedgeRoundRectCallout">
            <a:avLst>
              <a:gd name="adj1" fmla="val 99504"/>
              <a:gd name="adj2" fmla="val -56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生成終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24360" y="5227560"/>
            <a:ext cx="289080" cy="1297080"/>
          </a:xfrm>
          <a:prstGeom prst="downArrow">
            <a:avLst>
              <a:gd name="adj1" fmla="val 50000"/>
              <a:gd name="adj2" fmla="val 112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5299200"/>
            <a:ext cx="2519640" cy="725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これ以降はパケット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（共通鍵）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されるため、パケットキャプチ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不可と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5584680"/>
            <a:ext cx="1440000" cy="439920"/>
          </a:xfrm>
          <a:prstGeom prst="wedgeRoundRectCallout">
            <a:avLst>
              <a:gd name="adj1" fmla="val 94541"/>
              <a:gd name="adj2" fmla="val -4779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71640" y="52992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268360" y="5584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71640" y="56563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ACCE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268360" y="5952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5227560"/>
            <a:ext cx="4103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3786120"/>
            <a:ext cx="1439640" cy="441360"/>
          </a:xfrm>
          <a:prstGeom prst="wedgeRoundRectCallout">
            <a:avLst>
              <a:gd name="adj1" fmla="val 90023"/>
              <a:gd name="adj2" fmla="val 294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known_hosts”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チェ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（続き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68360" y="1197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690480"/>
            <a:ext cx="1440000" cy="441360"/>
          </a:xfrm>
          <a:prstGeom prst="wedgeRoundRectCallout">
            <a:avLst>
              <a:gd name="adj1" fmla="val 80097"/>
              <a:gd name="adj2" fmla="val 657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27280" y="1268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USERAUTH_FAIL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00360" y="1700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68360" y="19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628640"/>
            <a:ext cx="1440000" cy="4287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名とパスワードを送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0360" y="21286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268360" y="24145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200320"/>
            <a:ext cx="1439640" cy="36828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2565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68360" y="2851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2637000"/>
            <a:ext cx="1440000" cy="35712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セッション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ss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40000" y="2924280"/>
            <a:ext cx="3095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_CONFI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268360" y="3208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00360" y="39988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68360" y="4284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39988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シェルリクエス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ty-req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00360" y="43560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268360" y="4654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4726080"/>
            <a:ext cx="2449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50115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47260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ll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68360" y="5440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84360" y="5154480"/>
            <a:ext cx="28083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WINDOW_ADJ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6000" y="4940280"/>
            <a:ext cx="1800360" cy="571680"/>
          </a:xfrm>
          <a:prstGeom prst="wedgeRoundRectCallout">
            <a:avLst>
              <a:gd name="adj1" fmla="val -68342"/>
              <a:gd name="adj2" fmla="val 3928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ウィンドウサイズ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00360" y="55119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268360" y="57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00360" y="5940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268360" y="623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24360" y="5797440"/>
            <a:ext cx="1800360" cy="511200"/>
          </a:xfrm>
          <a:prstGeom prst="wedgeRoundRectCallout">
            <a:avLst>
              <a:gd name="adj1" fmla="val -68342"/>
              <a:gd name="adj2" fmla="val 3773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情報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6165720"/>
            <a:ext cx="792360" cy="142920"/>
          </a:xfrm>
          <a:prstGeom prst="leftArrow">
            <a:avLst>
              <a:gd name="adj1" fmla="val 50000"/>
              <a:gd name="adj2" fmla="val 13860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5297400"/>
            <a:ext cx="1440000" cy="714600"/>
          </a:xfrm>
          <a:prstGeom prst="wedgeRoundRectCallout">
            <a:avLst>
              <a:gd name="adj1" fmla="val 33902"/>
              <a:gd name="adj2" fmla="val 7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渡す。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見えには、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返ったように見え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96000" y="905040"/>
            <a:ext cx="2808360" cy="583920"/>
          </a:xfrm>
          <a:prstGeom prst="wedgeRoundRectCallout">
            <a:avLst>
              <a:gd name="adj1" fmla="val -54185"/>
              <a:gd name="adj2" fmla="val 1575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heckAuthListFirs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無効なときは、クライアントはユーザ操作による認証失敗により認証リストを得られる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8720" y="976320"/>
            <a:ext cx="152280" cy="652320"/>
          </a:xfrm>
          <a:custGeom>
            <a:avLst/>
            <a:gdLst>
              <a:gd name="textAreaLeft" fmla="*/ 0 w 152280"/>
              <a:gd name="textAreaRight" fmla="*/ 55080 w 152280"/>
              <a:gd name="textAreaTop" fmla="*/ 16920 h 652320"/>
              <a:gd name="textAreaBottom" fmla="*/ 635400 h 65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08720" y="1773360"/>
            <a:ext cx="142920" cy="784080"/>
          </a:xfrm>
          <a:custGeom>
            <a:avLst/>
            <a:gdLst>
              <a:gd name="textAreaLeft" fmla="*/ 0 w 142920"/>
              <a:gd name="textAreaRight" fmla="*/ 51480 w 142920"/>
              <a:gd name="textAreaTop" fmla="*/ 20160 h 784080"/>
              <a:gd name="textAreaBottom" fmla="*/ 763920 h 78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96000" y="2703600"/>
            <a:ext cx="1800360" cy="296640"/>
          </a:xfrm>
          <a:prstGeom prst="wedgeRoundRectCallout">
            <a:avLst>
              <a:gd name="adj1" fmla="val -59083"/>
              <a:gd name="adj2" fmla="val -23395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ssword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の場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00360" y="32846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3570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3213000"/>
            <a:ext cx="1440000" cy="576360"/>
          </a:xfrm>
          <a:prstGeom prst="wedgeRoundRectCallout">
            <a:avLst>
              <a:gd name="adj1" fmla="val 80759"/>
              <a:gd name="adj2" fmla="val 1115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エージェント転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"auth-agent-req@openssh.com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363852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268360" y="3924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08720" y="3429000"/>
            <a:ext cx="142920" cy="647640"/>
          </a:xfrm>
          <a:custGeom>
            <a:avLst/>
            <a:gdLst>
              <a:gd name="textAreaLeft" fmla="*/ 0 w 142920"/>
              <a:gd name="textAreaRight" fmla="*/ 514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6000" y="4141800"/>
            <a:ext cx="1871640" cy="297000"/>
          </a:xfrm>
          <a:prstGeom prst="wedgeRoundRectCallout">
            <a:avLst>
              <a:gd name="adj1" fmla="val -57717"/>
              <a:gd name="adj2" fmla="val -1826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ForwardAge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72360" y="1773360"/>
            <a:ext cx="1800000" cy="571320"/>
          </a:xfrm>
          <a:prstGeom prst="wedgeRoundRectCallout">
            <a:avLst>
              <a:gd name="adj1" fmla="val -102379"/>
              <a:gd name="adj2" fmla="val -9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送信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ilur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を返すがサーバにはログは残ら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切断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833400"/>
            <a:ext cx="1440000" cy="4413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上でログアウト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27280" y="1346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27280" y="17748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E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268360" y="2060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27280" y="22748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CL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268360" y="2560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27280" y="27036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8000" y="2060640"/>
            <a:ext cx="1439640" cy="868320"/>
          </a:xfrm>
          <a:prstGeom prst="wedgeRoundRectCallout">
            <a:avLst>
              <a:gd name="adj1" fmla="val 47023"/>
              <a:gd name="adj2" fmla="val 619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セッションのクローズ処理を行う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終了の通知を出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3000240"/>
            <a:ext cx="792000" cy="142920"/>
          </a:xfrm>
          <a:prstGeom prst="leftArrow">
            <a:avLst>
              <a:gd name="adj1" fmla="val 50000"/>
              <a:gd name="adj2" fmla="val 13853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2-03T08:01:51Z</dcterms:modified>
  <cp:revision>321</cp:revision>
  <dc:subject/>
  <dc:title>DDEのしくみ</dc:title>
</cp:coreProperties>
</file>