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1549-1982-4C8E-BA92-70315C1D8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91CB-22DE-4533-B38F-AE6E11EEA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4B65-39FB-4DA8-8E3E-C4B48D915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163E-97AD-48F3-9B67-14A1D4B2A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72B7-DD52-4807-A5CD-63510A650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DB5A-B74A-4245-896B-27E0A066E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6A6F-1E0D-4F21-8BE8-BD7C86E73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AFB7-43A5-4EF8-B226-A4CF50586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412F-0080-4DE5-B65A-D3467A688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DC28-CF75-4CAF-829E-1A0E897E4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EDA4-F4F5-4F3C-8F8D-5908392B5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F935-E2B7-48AD-8EBA-11D3B4535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2451C-9610-42B4-AA88-DBE8463B62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による接続処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76360" y="90792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OpenTC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000" y="33336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8000" y="90792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O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58920" y="404640"/>
            <a:ext cx="0" cy="626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76360" y="33336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TS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71640" y="1125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5940360" y="549360"/>
          <a:ext cx="2664000" cy="1214280"/>
        </p:xfrm>
        <a:graphic>
          <a:graphicData uri="http://schemas.openxmlformats.org/drawingml/2006/table">
            <a:tbl>
              <a:tblPr/>
              <a:tblGrid>
                <a:gridCol w="1224000"/>
                <a:gridCol w="144000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フック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フック先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n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conn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rec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s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SAAsyncSel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WSAAsyncSel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"/>
          <p:cNvSpPr/>
          <p:nvPr/>
        </p:nvSpPr>
        <p:spPr>
          <a:xfrm>
            <a:off x="2627280" y="692280"/>
            <a:ext cx="649440" cy="576000"/>
          </a:xfrm>
          <a:prstGeom prst="wedgeRoundRectCallout">
            <a:avLst>
              <a:gd name="adj1" fmla="val -78606"/>
              <a:gd name="adj2" fmla="val 2768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ソケット関数のフッ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1700280"/>
            <a:ext cx="86328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SAAsyncSel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2492280"/>
            <a:ext cx="86328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9640" y="126828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9640" y="2133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87280" y="19162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692360" y="1700280"/>
            <a:ext cx="12952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WSAAsyncSe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03640" y="1557360"/>
            <a:ext cx="1008000" cy="503280"/>
          </a:xfrm>
          <a:prstGeom prst="wedgeRoundRectCallout">
            <a:avLst>
              <a:gd name="adj1" fmla="val -68425"/>
              <a:gd name="adj2" fmla="val 244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続前は何もしな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87280" y="27082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92360" y="249228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71640" y="2421000"/>
            <a:ext cx="2160720" cy="576360"/>
          </a:xfrm>
          <a:prstGeom prst="wedgeRoundRectCallout">
            <a:avLst>
              <a:gd name="adj1" fmla="val -55509"/>
              <a:gd name="adj2" fmla="val -344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へ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続を行う。接続成功すると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D_CONNEC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メッセージが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へ飛ぶ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8000" y="3068640"/>
            <a:ext cx="79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08000" y="321300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CommOp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3573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0920" y="393372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Star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16000" y="41497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9280" y="3933720"/>
            <a:ext cx="12952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WSAAsyncSe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403280" y="3141720"/>
            <a:ext cx="1368360" cy="574560"/>
          </a:xfrm>
          <a:prstGeom prst="wedgeRoundRectCallout">
            <a:avLst>
              <a:gd name="adj1" fmla="val -101277"/>
              <a:gd name="adj2" fmla="val 8812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D_READ | FD_OOB | FD_CLOSE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を登録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916360" y="4149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348000" y="3933720"/>
            <a:ext cx="1511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000000"/>
                </a:solidFill>
                <a:latin typeface="Arial"/>
              </a:rPr>
              <a:t>AUTH_advance_to_next_cr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59280" y="4149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292720" y="3933720"/>
            <a:ext cx="1511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tart_user_au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940360" y="3213000"/>
            <a:ext cx="1440000" cy="503280"/>
          </a:xfrm>
          <a:prstGeom prst="wedgeRoundRectCallout">
            <a:avLst>
              <a:gd name="adj1" fmla="val -56175"/>
              <a:gd name="adj2" fmla="val 954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認証ダイアログを表示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8000" y="458136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CommNotif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4000" y="4941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530064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ProcRR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4365720"/>
            <a:ext cx="72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D_REA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0920" y="602136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Recei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16000" y="6237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619280" y="602136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rec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56000" y="6165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7640" y="4581360"/>
            <a:ext cx="1872000" cy="576360"/>
          </a:xfrm>
          <a:prstGeom prst="wedgeRoundRectCallout">
            <a:avLst>
              <a:gd name="adj1" fmla="val -80023"/>
              <a:gd name="adj2" fmla="val -1143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番始めは”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tocol Version Exchang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がサーバより送られてく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987640" y="6021360"/>
            <a:ext cx="93672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KT_rec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24360" y="6165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56000" y="6021360"/>
            <a:ext cx="1584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_handle_server_I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940360" y="5300640"/>
            <a:ext cx="2592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SH-2.0-TTSSH/2.46 Win3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227640" y="5950080"/>
            <a:ext cx="2089440" cy="647640"/>
          </a:xfrm>
          <a:prstGeom prst="wedgeRoundRectCallout">
            <a:avLst>
              <a:gd name="adj1" fmla="val -61851"/>
              <a:gd name="adj2" fmla="val -1936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バージョン情報を検証後、クライアント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のバージョン情報をサーバへ送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8000" y="2997360"/>
            <a:ext cx="90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D_CONN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3-09T15:52:49Z</dcterms:modified>
  <cp:revision>222</cp:revision>
  <dc:subject/>
  <dc:title>DDEのしくみ</dc:title>
</cp:coreProperties>
</file>