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41D3-080C-4F52-A3F9-AD6364CC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4CDF-F0FA-4129-8D1E-42011776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8D92-391F-4DB8-A285-32FF2001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714-0290-4904-929D-5760A7AB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E720-2F7C-4F10-B73B-9C2510BE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321-8637-40E9-9493-AF35A68B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9AC5-556F-4168-A99C-4AD0B1C1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9DBA-185B-41F7-923E-4CB4106D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F2C-9D58-4E9C-867F-4BB47033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211D-2663-4BF1-A280-71D09309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7E1-7ECF-4A03-A609-9AE437A1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7657-2858-43FA-9C40-0B65709F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7428-6252-4C1B-BC74-240F72B13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tegriography.com/" TargetMode="External"/><Relationship Id="rId2" Type="http://schemas.openxmlformats.org/officeDocument/2006/relationships/hyperlink" Target="http://windowsir.blogspot.com/2010/02/mft-analysis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FT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ntegriography.com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indowsir.blogspot.com/2010/02/mft-analysi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eM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ten by David Kovar, C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thon tool to parse $M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ses the attributes of each file in an NTFS fil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 is really g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V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least 50 entries for each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by other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- if the entry is val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e - if the entry is a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type - the type of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Sequence - the sequence number for the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Folder Record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Folder Sequence Numb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standard information attribut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ific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ry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up to four file name record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ific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ry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Volume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Object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Domain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flags to show if each of the following attributes is present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 Information, Attribute List, Filename, Object ID, Volume Name, Volume Info, Data, Index Root, Index Allocation, Bitmap, Reparse Point, EA Information, EA, Property Set, Logged Utility 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s/Log - Field used to log any significant events or observations relating to this recor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d-fn-shift - Populated if anomaly detection is turned on. Y/N. Y indicates that the FN create date is later than the STD create d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c-zero - Populated if anomaly detection is turned on. Y/N. Y indicates that the STD create date's microsecond value is zer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told you s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0575","Good","Inactive","0","5422 - 5426","3","TRANSFERMGR.EXE-24D2A23F.pf","2009/12/27 18:35:57.625000","2009/12/28 05:32:01.390625","2009/12/27 18:35:57.625000","2009/12/28 05:32:01.390625","2009/12/27 18:35:57.625000","2009/12/27 18:35:57.625000","2009/12/27 18:35:57.625000","2009/12/27 18:35:57.625000","","","","","TRANSFERMGR.EXE-24D2A23F.pf","2009/12/27 18:35:57.625000","2009/12/27 18:35:57.625000","2009/12/27 18:35:57.625000","2009/12/27 18:35:57.625000","","","","","","","","","","","True","False","False","False","False","False","True","False","False","False","False","False","False","False","False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ge: analyzeMFT.py [option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h, --help show this help message and ex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f FILE, --file=FILE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ad MFT from F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o FILE, --output=FI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results to 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, --anomaly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rn on anomaly det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b FILE, --bodyfile=FI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MAC information to body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g, --gui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GUI for file sel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d, --debu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urn on debugging 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he M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MF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y David Kov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iography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ython c:\bin\analyzeMFT.py –f ntfs.mft –o mft.t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2:31:27Z</dcterms:created>
  <dc:creator>Ackler</dc:creator>
  <dc:description/>
  <dc:language>en-US</dc:language>
  <cp:lastModifiedBy>Lynn</cp:lastModifiedBy>
  <dcterms:modified xsi:type="dcterms:W3CDTF">2012-10-23T17:43:34Z</dcterms:modified>
  <cp:revision>11</cp:revision>
  <dc:subject/>
  <dc:title>MFT Analysis</dc:title>
</cp:coreProperties>
</file>