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738C-EFC1-4998-BF98-142CD13DC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88A6-AEF7-47B2-A2CA-44F71DFA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6996-2D2F-4193-B0A9-EC6B2DCEA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E433-770F-40B1-8107-AA92432D9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6047-E024-4A38-8C0F-B61FE3F6F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DB72-A9AC-4229-A9B8-F8DD9CCB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1EFD-DCE4-40E1-8B9C-43EE7D60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B9D9-901A-4DAB-8D5B-AF784207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83FE-C581-4153-A556-6410AEEF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4872-F2A9-4A74-AAC1-76B89EE9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6AF9-ED0A-4E6E-A7F7-4A43ED8C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6931-7400-4E03-AEB8-34E8D733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5589-CD62-4D15-B9B0-A550663C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09CD-1FA3-48E1-A0B9-E41AB9A9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9A6F-4793-4B61-B869-18AC29D8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A405-A261-466D-87EC-9171D6C38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6BD2-E87E-4983-9049-5FAABB01A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F86D-64D4-4BB5-85B2-A014E51B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A5D9-8088-40B1-A7D0-7767D684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52E4-D929-460C-8D23-C8CE13E7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383B-2459-4141-B324-D193CA70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95CC-6459-4AB2-AFCB-517D9AE1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1DC9-B80A-4FC6-8BEF-E53F7996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713A-3BFE-4496-A5EA-B8AACD16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6103-9232-4200-AF60-5D1E15CED8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F50C-6AD2-45AA-981E-30F1A43A28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uter Forens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TFS Fil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P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4811760"/>
            <a:ext cx="8955000" cy="204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1828800"/>
            <a:ext cx="84218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286000"/>
            <a:ext cx="8153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tes per secto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 0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200 = 512 dec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tors per clust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 0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ed sectors 0x 00 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924680" y="2514600"/>
            <a:ext cx="45720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3048120"/>
            <a:ext cx="35812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P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4811760"/>
            <a:ext cx="8955000" cy="2046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57200" y="1828800"/>
            <a:ext cx="84218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15: Media Descriptor:  F8 is hard drive, F0 is flop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28 Total number of sectors: F7AF4E0900000000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00000094EAFF7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6,151,799 sectors, i.e. ~80G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4876920"/>
            <a:ext cx="9144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5257800"/>
            <a:ext cx="36576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P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4811760"/>
            <a:ext cx="8955000" cy="2046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57200" y="1828800"/>
            <a:ext cx="84218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0: Logical cluster number for MFT copy 1: cluster C07FE9 (File $MF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8: Logical cluster number for MFT copy 2: cluster 40029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5638680"/>
            <a:ext cx="48006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486400" y="5638680"/>
            <a:ext cx="36576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P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4811760"/>
            <a:ext cx="8955000" cy="20462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57200" y="1828800"/>
            <a:ext cx="84218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40: Clusters per MFT record: F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48: Volume Serial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5943600"/>
            <a:ext cx="9144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5943600"/>
            <a:ext cx="36576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Master File T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four entries are replicated, so that MFT can be repai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16 records are reserved for metadata files, their name begins with a dollar sign ($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Master File T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file table $MF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file table mirror $MftMir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 file $LogFil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me $Volume Attribute definitions $AttrDef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ot folder “.”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ster bitmap $Bitma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t sector $Boot (located at the beginning of parti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d cluster file $BadCl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file $Secu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case table $Upc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TFS extension file $Extend, that is used for future us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Master File T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587700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ries are 1KB e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ries cont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e Attrib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09480" y="4800600"/>
          <a:ext cx="815364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800600"/>
                    <a:ext cx="815364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Files (&lt;900B) are contained completely in the MFT ent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267080" y="1905120"/>
            <a:ext cx="425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lders contain index da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all folders reside within the MFT reco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rger folders have an index structure to other data blocks. They use a B-tree structu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BR and GPT Dis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BR disks for 32b 86x-compati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PT disks for 64b Itanium process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 MBR in order to maintain compat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BR has a single partition with a partition table entry of 0x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MFT record is addressed by a 48 bit MFT entry valu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entry has address 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MFT entry has a 16 bit sequence number that is incremented when the entry is alloc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FT entry value and sequence number combined yield 64b file reference addr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TFS uses the file reference address to refer to MTF entri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he system crashes during allocation, then the sequence number describes whether the MTF entry belonged to the previous file or to the current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80880" y="5029200"/>
          <a:ext cx="8305920" cy="16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029200"/>
                    <a:ext cx="830592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FT entry attributes are loosely defin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attribute is preceded by the attribute head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ttribute header identif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attribu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23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ttribute header gives basic information about the attribu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sident attribute is stored in the MFT ent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on-resident entry is stored in a cluster outside the MF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38080" y="4508640"/>
          <a:ext cx="7620120" cy="23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508640"/>
                    <a:ext cx="762012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ident attributes are stored in MFT recor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sident attributes are stored in cluster ru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ster run consists of consecutive clusters and are identified by starting cluster and run lengt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TFS distinguishes between Virtual Cluster Numbers and Logical Cluster Numb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CN * (#sectors in cluster) = sector nu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CN 0 is first cluster in the volume (boot sector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N 0 refers to the first cluster in a cluster ru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23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FT entry header has a fixed stru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990720" y="3276720"/>
          <a:ext cx="7619760" cy="23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276720"/>
                    <a:ext cx="761976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00 - 0x03: Magic Number: "FILE"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04-0x05: Offset to the update seque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06-0x07: Number of entries in fixup arr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08-0x0f: $LogFile Sequence Number (LS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0-0x11: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2 - 0x13: Hard link cou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4-0x15: Offset to first attrib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6 - 0x17: Flags: 0x01: record in use, 0x02 directo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8-0x1b: Used size of MFT en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c-0x1f: Allocated size of MFT ent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20-0x27: File reference to the base FILE rec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28-0x29: Next attribute 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2a-0x2b: (XP) Align to 4B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2c-ox2f: (XP) Number of this MFT rec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30-0x100: Attributes and fixup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6048360" cy="49244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3962160"/>
            <a:ext cx="3657600" cy="110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1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irectory en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971800" y="1828800"/>
            <a:ext cx="6048360" cy="49244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28600" y="4724280"/>
            <a:ext cx="7391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FT records start with “FILE”.  A bad cluster would start with “BAA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39920" y="0"/>
            <a:ext cx="6004080" cy="66294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3962160"/>
            <a:ext cx="3429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6048360" cy="49244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85800" y="5105520"/>
            <a:ext cx="7848720" cy="16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4-5: Offset to update sequ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6-7: Number of entries in fixup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8-f: Log file sequenc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0x10-0x11: Sequence number: 59 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819520" y="1828800"/>
            <a:ext cx="6048360" cy="49244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85800" y="5105520"/>
            <a:ext cx="784872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0x12-0x13: 2 – hard link 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0x14-0x15: Offset to first attribute: 0x 3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0x16-0x17: Flags: In use and contains a directory 0x 0001 | 0x 0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6048360" cy="49244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04920" y="5105520"/>
            <a:ext cx="8229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0x14 – 0x15: First attribute starts at 0x 38 00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0x 00 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List of possible attribu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$AttrDef entry of MFT, but defaul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10 STANDARD_INFORM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20$ATTRIBUTE_LIS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30$FILE_NAME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40 (NT) $VOLUME_VERSION (2K) $OBJECT_I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50 $SECURITY_DESCRIPT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60$VOLUME_N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70 $VOLUME_INFORM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80$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90$INDEX_ROO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A0$INDEX_ALLO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B0$BITMA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C0 (NT) $SYMBOLIC_LINK, (2K) $REPARSE_POI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D0$EA_INFORM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E0$EA0xF0NT$PROPERTY_SE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100 (2K) $LOGGED_UTILITY_STREA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Layo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es can be resident or non-resid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ginning is always the sam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0 Attribute Type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4 Length of 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8 non-resident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9 length of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a offset to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c fla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37339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e is of type 00 00 00 01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e is 0x 00 00 00 60 bytes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e is resident (0x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s are 0x 00 00 00 48 bytes long and start at offset 0x 00 18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60199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676520" y="2743200"/>
          <a:ext cx="6095880" cy="3921120"/>
        </p:xfrm>
        <a:graphic>
          <a:graphicData uri="http://schemas.openxmlformats.org/drawingml/2006/table">
            <a:tbl>
              <a:tblPr/>
              <a:tblGrid>
                <a:gridCol w="990360"/>
                <a:gridCol w="533520"/>
                <a:gridCol w="533160"/>
                <a:gridCol w="4038840"/>
              </a:tblGrid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Creation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Alteration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FT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Read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S File Permis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number of ver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sion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wner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1066680" y="19810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Info Attribut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allows us to extract the file access times just as for D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values are in 100 nanoseconds since January 1, 1601 U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entry has attribute number 00 00 00 03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300000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$FILE_NAME attrib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attribute length is 70 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nts start at offset 18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743200" y="5105520"/>
            <a:ext cx="594360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ontent layout for the $FILE_NAME attribute i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00 File reference to parent direct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08 File crea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10 File modifica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20 File access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28 Allocated size of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30 Real size of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38 Fla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40 File name length in unicode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42 File name in unicod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Partition Layo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8915400" cy="9860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14400" y="3809880"/>
            <a:ext cx="746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82600" y="35812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ot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sic parameters of NTFS par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ster File Table (5%-10% of part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ble of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llection of attribu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ttributes can be resident or in the File System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 System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ster File Table 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viously, this is a short file na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28800" y="4648320"/>
            <a:ext cx="594360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attribute is also a file name, but this time the complete ent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676520" y="4495680"/>
            <a:ext cx="599112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Ver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le system improv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k Layout chang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>
            <a:alphaModFix amt="67000"/>
          </a:blip>
          <a:stretch/>
        </p:blipFill>
        <p:spPr>
          <a:xfrm>
            <a:off x="1828800" y="228600"/>
            <a:ext cx="7102440" cy="64594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oot S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4800600"/>
            <a:ext cx="670572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ice that the end of sector marker is 55 A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ou can look for this to find boot sectors for NTFS and 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oot S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0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mp Instruc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0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EM I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0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PB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2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8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ded BPB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5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26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otstrap Cod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1F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d of Sector Mark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6858000" cy="62355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SF Boot S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SF Boot S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421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fields are not important, bu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B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tes per secto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D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tors per Clu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 descriptor. F8: HD; F0: HD Flop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28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secto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cal cluster number for the M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cal cluster number copy of the M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40     Clusters per MFT Recor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48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me se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oot S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0178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Hex allows access to an interpreted NTFS Boot Sect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Access Tab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425772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0T22:41:17Z</dcterms:created>
  <dc:creator>Thomas Schwarz</dc:creator>
  <dc:description/>
  <dc:language>en-US</dc:language>
  <cp:lastModifiedBy>Thomas Schwarz</cp:lastModifiedBy>
  <dcterms:modified xsi:type="dcterms:W3CDTF">2006-05-01T19:23:00Z</dcterms:modified>
  <cp:revision>10</cp:revision>
  <dc:subject/>
  <dc:title>Computer Forensics</dc:title>
</cp:coreProperties>
</file>