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4FE-BB37-4563-B833-76024E1C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F77-5730-4822-B65D-50C109EE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449-E56B-4B86-8882-5FBFBD68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2B2-C0A5-4B5D-8F7C-59A8AD54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68F-6647-4825-9F95-ED20B74D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EAE-6FEE-4FF9-A81F-73B5CDFB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B26-5107-433D-B879-66B5DA8E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415-90F6-4990-AA6E-A8BE9777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CE5-22FF-4563-97A5-4D5F3153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9F6-0761-4916-A555-F8144494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735-1865-44B7-A5DF-77EEE6B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DDD-AA39-4797-8B21-74A738E4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2BC5-F233-4892-BCD0-A31CD6CAB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griography.com/" TargetMode="External"/><Relationship Id="rId2" Type="http://schemas.openxmlformats.org/officeDocument/2006/relationships/hyperlink" Target="http://windowsir.blogspot.com/2010/02/mft-analysi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tegriography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ndowsir.blogspot.com/2010/02/mft-analysi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by David Kovar, C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tool to parse $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es the attributes of each file in an NTFS fi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is really g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50 entries for each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other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- if the entry is val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- if the entry is 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type - the type of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Sequence - the sequence number for the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Sequence 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standard information attribut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up to four file name record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Volume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Domai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lags to show if each of the following attributes is presen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Information, Attribute List, Filename, Object ID, Volume Name, Volume Info, Data, Index Root, Index Allocation, Bitmap, Reparse Point, EA Information, EA, Property Set, Logged Utility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s/Log - Field used to log any significant events or observations relating to this rec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d-fn-shift - Populated if anomaly detection is turned on. Y/N. Y indicates that the FN create date is later than the STD create d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c-zero - Populated if anomaly detection is turned on. Y/N. Y indicates that the STD create date's microsecond value is zer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told you s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575","Good","Inactive","0","5422 - 5426","3","TRANSFERMGR.EXE-24D2A23F.pf","2009/12/27 18:35:57.625000","2009/12/28 05:32:01.390625","2009/12/27 18:35:57.625000","2009/12/28 05:32:01.390625","2009/12/27 18:35:57.625000","2009/12/27 18:35:57.625000","2009/12/27 18:35:57.625000","2009/12/27 18:35:57.625000","","","","","TRANSFERMGR.EXE-24D2A23F.pf","2009/12/27 18:35:57.625000","2009/12/27 18:35:57.625000","2009/12/27 18:35:57.625000","2009/12/27 18:35:57.625000","","","","","","","","","","","True","False","False","False","False","False","True","False","False","False","False","False","False","False","Fals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: analyzeMFT.py [option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, --help show this help message and ex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 FILE, --file=FILE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d MFT from F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 FILE, --output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results to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, --anomaly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rn on anomaly det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b FILE, --bodyfile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MAC information to body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g, --gui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GUI for file se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d, --debu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urn on debugging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he 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M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David Kov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iography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ython c:\bin\analyzeMFT.py –f ntfs.mft –o mft.t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2:31:27Z</dcterms:created>
  <dc:creator>Ackler</dc:creator>
  <dc:description/>
  <dc:language>en-US</dc:language>
  <cp:lastModifiedBy>Lynn</cp:lastModifiedBy>
  <dcterms:modified xsi:type="dcterms:W3CDTF">2012-10-23T17:43:34Z</dcterms:modified>
  <cp:revision>11</cp:revision>
  <dc:subject/>
  <dc:title>MFT Analysis</dc:title>
</cp:coreProperties>
</file>