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B519-58B4-46D1-A042-84B705370FC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CBEC-9343-49FA-B2D9-956962B5E53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19B9-D96A-41D2-BE81-6BAE1858CB0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E935-29B2-4E41-B37E-F4919F04FE9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20F9-C8BF-416E-93D7-E02FB2503C0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BB85-CA61-4CF6-87FF-C1C83D6E142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3833-4FAD-437C-98BF-C7F885A60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3A2A-F2A4-40D0-9DBB-44AF39215ED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5FD-6F14-4817-B234-9160B544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4E5-90B0-404D-8A25-A5BE3F5A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FC6-388C-439B-ACAF-F1B20514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1C7-D931-4BCD-A2F0-065D6CF6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1E0-D26D-4452-829D-91EDA77E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AC4-5D25-4E21-A76C-D3D7EFF7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018-A98B-4C12-A61C-1A6CCA29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A98-1A80-4F8F-BCF9-217674B8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8A5-26C5-474C-A52A-96250ECB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FBE-B065-43F7-9E16-E2399416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DD6-2986-49D0-865C-1745ADCE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F5A-C43B-4B38-84FF-F53D65BF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ENU_Logo_be0f34.png"/>
          <p:cNvPicPr/>
          <p:nvPr/>
        </p:nvPicPr>
        <p:blipFill>
          <a:blip r:embed="rId2"/>
          <a:stretch/>
        </p:blipFill>
        <p:spPr>
          <a:xfrm>
            <a:off x="6594480" y="352440"/>
            <a:ext cx="220032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CSN11109 - Lecture 2: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D14C-3B13-4122-B4AC-DA74E39B42DC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SN08101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gital Forensic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cture 8: Fil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Leader: Dr Gordon Rus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rs: Robert Ludwi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Encryption Key Encry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93840" y="2419200"/>
            <a:ext cx="84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encrypted with user’s public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decrypted with user’s privat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olicy allows it, FEK is also encrypted with public key of recovery agent (and decrypted with private key of recovery 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FS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34800" y="2233440"/>
            <a:ext cx="848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default a user’s private key is stored in the Windows registry, encrypted with login password 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ogin password is susceptible to brute force attack and private key might be 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S creates a temporary file (EFS0.TMP) with plaintex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s it as deleted when finished but doesn’t actually eras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34800" y="2489040"/>
            <a:ext cx="8439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added to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ed to support Macintosh files that have a data and resource f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impossible to detect with normal file brows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avourite of hackers and cri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5600" y="2349360"/>
            <a:ext cx="84488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s that store file system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onfuse with fil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16 MFT entries reserved for files that describe the file system listed in the roo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file begins with ‘$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28680" y="2046240"/>
          <a:ext cx="8381880" cy="4246560"/>
        </p:xfrm>
        <a:graphic>
          <a:graphicData uri="http://schemas.openxmlformats.org/drawingml/2006/table">
            <a:tbl>
              <a:tblPr/>
              <a:tblGrid>
                <a:gridCol w="1257120"/>
                <a:gridCol w="1886040"/>
                <a:gridCol w="5238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T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Mi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 of the 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Log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journal information for metadata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Information: label, identifier,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e information: identifier values, name, si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directory of the file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allocation status for each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the boot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adC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clusters that have bad se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8809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ster File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24000" y="2233440"/>
            <a:ext cx="8450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file and directory has at least one entry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entry is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 KB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try header is first 42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maining bytes stor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ident and Non-Resident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301680" y="2327400"/>
            <a:ext cx="8529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esident attribute stores its content in the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on-resident attribute stores its content in external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resident attributes are stored in cluster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ttribute header gives the starting cluster address and its ru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5600" y="869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ata Structure Categ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0960" y="1735200"/>
          <a:ext cx="8704440" cy="4795920"/>
        </p:xfrm>
        <a:graphic>
          <a:graphicData uri="http://schemas.openxmlformats.org/drawingml/2006/table">
            <a:tbl>
              <a:tblPr/>
              <a:tblGrid>
                <a:gridCol w="1451160"/>
                <a:gridCol w="1227240"/>
                <a:gridCol w="1171440"/>
                <a:gridCol w="1841400"/>
                <a:gridCol w="1562400"/>
                <a:gridCol w="1450800"/>
              </a:tblGrid>
              <a:tr h="938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, $Volume, 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s, 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, $MFTMirr, $STANDARD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, $DATA, $ATTRIBUTE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$SECURITY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FILE_NAME$IDX_ROO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IDX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Quota, Journal, Change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4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28600" y="2595600"/>
          <a:ext cx="87850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5600"/>
                    <a:ext cx="87850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28760" y="243036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entry has address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5640" y="226188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ga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Brace 1"/>
          <p:cNvSpPr/>
          <p:nvPr/>
        </p:nvSpPr>
        <p:spPr>
          <a:xfrm>
            <a:off x="5473800" y="2371680"/>
            <a:ext cx="255600" cy="1714680"/>
          </a:xfrm>
          <a:custGeom>
            <a:avLst/>
            <a:gdLst>
              <a:gd name="textAreaLeft" fmla="*/ 0 w 255600"/>
              <a:gd name="textAreaRight" fmla="*/ 92160 w 255600"/>
              <a:gd name="textAreaTop" fmla="*/ 6480 h 1714680"/>
              <a:gd name="textAreaBottom" fmla="*/ 170820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16200" y="10800"/>
                  <a:pt x="21600" y="10800"/>
                </a:cubicBezTo>
                <a:cubicBezTo>
                  <a:pt x="162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811840" y="30225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t w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28760" y="2430360"/>
            <a:ext cx="82296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T entry attributes are loose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ttribute is preceded by the attribut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ribute header identif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1840" y="2260080"/>
            <a:ext cx="84488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-0x03: Magic Number: "FIL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-0x0f:  $LogFile Sequence Number (L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2-0x13: Hard link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2200" y="2227320"/>
            <a:ext cx="864864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6-0x17: Flags: 0x01 record in use, 0x02 dir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C-0x2F: (XP) Number of this MFT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0680" y="97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FT Header is always the s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 Attribute Type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 Length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 non-resident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9 length of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a offset t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c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9360" y="66960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List of Possible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8280" y="161784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$AttrDef entry of MFT, but defaul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TANDARD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ATTRIBUTE_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ILE_NAM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0 (N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VERSION (2K) $OBJEC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ECURITY_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8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9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A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B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C0 (NT) $SYMBOLIC_LINK, (2K) $REPARSE_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D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E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0xF0NT$PROPERTY_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0(2K) $LOGGED_UTILITY_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760" y="70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47920" y="2209680"/>
          <a:ext cx="6858000" cy="4267440"/>
        </p:xfrm>
        <a:graphic>
          <a:graphicData uri="http://schemas.openxmlformats.org/drawingml/2006/table">
            <a:tbl>
              <a:tblPr/>
              <a:tblGrid>
                <a:gridCol w="1114200"/>
                <a:gridCol w="600120"/>
                <a:gridCol w="600120"/>
                <a:gridCol w="45435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145"/>
          <p:cNvSpPr/>
          <p:nvPr/>
        </p:nvSpPr>
        <p:spPr>
          <a:xfrm>
            <a:off x="990720" y="1523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6705720" y="0"/>
            <a:ext cx="24382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360" y="31896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358920" y="1076400"/>
            <a:ext cx="8275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cate an MFT entry for the new f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ize MFT entry with $STANDARD_INFORMA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ck MFT $Bitmap to find free clusters, using best-fit algorith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corresponding $Bitmap bits to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e file content to clusters and update $DATA attribute with starting address of cluster run and run leng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$INDEX_ROOT attribute for dir1 and determine where file1.txt should 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new index entry; resort index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ter steps in $LogFile (as each step is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5760" y="653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le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404640" y="1574640"/>
            <a:ext cx="815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$INDEX_ROOT for dir1 entry and find file1.tx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filename entry from index; move other entries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MFT $Bitmap entries to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er steps in $LogFile (as each step is tak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4460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general details of a fil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08080" y="1179360"/>
            <a:ext cx="43527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Typ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lume Serial Number: 2A040574040543F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EM Nam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sion: Windows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: 324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 Mirror: 486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MFT Entries: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Index Records: 4096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nge: 0 - 145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Directory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ctor Size: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uster Size: 2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Cluster Range: 0 - 973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Sector Range: 0 - 38948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5600" y="1681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continu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08080" y="1006560"/>
            <a:ext cx="844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Def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TANDARD_INFORMATION (16)   Size: 48-7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IBUTE_LIST (32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FILE_NAME (48)   Size: 68-578   Flags: Resident,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OBJECT_ID (64)   Size: 0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ECURITY_DESCRIPTOR (8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NAME (96)   Size: 2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INFORMATION (112)   Size: 12-1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DATA (128)   Size: No Limit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ROOT (144)   Size: No Limit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ALLOCATION (16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BITMAP (176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REPARSE_POINT (192)   Size: 0-16384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_INFORMATION (208)   Size: 8-8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 (224)   Size: 0-65536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LOGGED_UTILITY_STREAM (256)   Size: 0-65536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000" y="18072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ls -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ist file and directory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43000" y="1109520"/>
            <a:ext cx="8658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4-128-4:    $AttrD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2:    $BadC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1:    $BadClus:$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-128-1:    $Bi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7-128-1:    $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1-144-4:   $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-128-1:    $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0-128-1:    $M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-128-1:    $MFTMi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28-8:    $Secure:$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1:   $Secure:$S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4:   $Secure:$S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0-128-1:   $Up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-128-3:    $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79-128-1: AUTOEXEC.B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52-128-3: boot.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5505-128-1: CONFIG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058-144-6: Documents and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39-128-1: hiberfil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3377-128-3:        hpfr5550.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0-128-1: IO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1-128-1: MSDOS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20-128-3: NTDETEC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16-128-3: ntl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7-128-1:   pagefile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457-144-6: Program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2728-144-1:        RECYC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7611-144-1: System Volum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28-144-6:   WIN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4519:      $Orphan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4320" y="86976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73160" y="1973160"/>
            <a:ext cx="872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Entry Header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ry: 5505        Sequence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File Sequence Number: 15634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nks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TANDARD_INFORMATION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wner ID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curity ID: 258 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480" y="8791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96840" y="1773360"/>
            <a:ext cx="872820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FILE_NAME Attribut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NFIG.S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MFT Entry: 5     Sequenc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Size: 0       Actual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tribu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STANDARD_INFORMATION (16-0)   Name: N/A   Resident   size: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FILE_NAME (48-2)   Name: N/A   Resident   size: 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DATA (128-1)   Name: N/A   Resident  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5760" y="19188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  <a:ea typeface="Arial"/>
              </a:rPr>
              <a:t>icat -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Output the contents of a file based on its inode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85760" y="882720"/>
            <a:ext cx="6310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0: 4649 4c45 3000 0300 2497 2b02 0000 0000  FILE0...$.+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10: 0100 0100 3800 0100 9801 0000 0004 0000  ....8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20: 0000 0000 0000 0000 06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30: f000 0000 0000 0000 1000 0000 6000 0000  ............`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40: 0000 1800 0000 0000 4800 0000 1800 0000  ........H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6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70: 06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80: 0000 0000 0001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90: 0000 0000 0000 0000 3000 0000 6800 0000  ........0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a0: 0000 1800 0000 0300 4a00 0000 1800 0100  ........J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b0: 0500 0000 0000 0500 c08e 3200 e478 c201  ......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c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d0: c08e 3200 e478 c201 0040 0000 0000 0000  ..2..x...@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e0: 0040 0000 0000 0000 0600 0000 0000 0000  .@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f0: 0403 2400 4d00 4600 5400 0000 0000 0000  ..$.M.F.T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00: 8000 0000 4800 0000 0100 4000 0000 01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10: 0000 0000 0000 0000 5f1c 0000 0000 0000  ........_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20: 4000 0000 0000 0000 0000 e3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30: 00dc e200 0000 0000 00dc e2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40: 3260 1cda f304 0080 b000 0000 4800 0000  2`.......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50: 0100 4000 0000 0500 0000 0000 0000 0000  ..@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60: 0000 0000 0000 0000 4000 0000 0000 0000  ........@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70: 0008 0000 0000 0000 1807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80: 1807 0000 0000 0000 3101 d9f3 0400 0000  ..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90: ffff ffff 0000 0000 006c 0000 0000 0000  .........l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a0: 006c 0000 0000 0000 3110 daf3 0400 0000  .l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b0: b000 0000 4800 0000 0100 4000 0000 05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c0: 00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d0: 4000 0000 0000 0000 0008 00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e0: 0800 0000 0000 0000 08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f0: 3101 d9f3 0400 0000 ffff ffff 0000 f000  1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2 and Ext3 are the default Linux fi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3 is the new version of Ext2 and adds journaling mechanism, but the basic structur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metadata is stored throughout the file system, and the metadata which is associated with a file are stored “near”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ile System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whole area is divided into several block groups, and block groups contains several bl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block group is used to store file metadata and fil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480" y="4548240"/>
          <a:ext cx="8915400" cy="1000080"/>
        </p:xfrm>
        <a:graphic>
          <a:graphicData uri="http://schemas.openxmlformats.org/drawingml/2006/table">
            <a:tbl>
              <a:tblPr/>
              <a:tblGrid>
                <a:gridCol w="892080"/>
                <a:gridCol w="890640"/>
                <a:gridCol w="892080"/>
                <a:gridCol w="890640"/>
                <a:gridCol w="892080"/>
                <a:gridCol w="892080"/>
                <a:gridCol w="890640"/>
                <a:gridCol w="892080"/>
                <a:gridCol w="890640"/>
                <a:gridCol w="8924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uper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Group Descr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文字方塊 6"/>
          <p:cNvSpPr/>
          <p:nvPr/>
        </p:nvSpPr>
        <p:spPr>
          <a:xfrm>
            <a:off x="185724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字方塊 8"/>
          <p:cNvSpPr/>
          <p:nvPr/>
        </p:nvSpPr>
        <p:spPr>
          <a:xfrm>
            <a:off x="728676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76320" y="4475160"/>
            <a:ext cx="539136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uperbloc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Ext2 superblock is located 1024 bytes from the start of the file system and is 1024 bytes in size. ( The first two sectors are used to store boot code 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ack up copies are typically stored in the first file data block of each block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basic information of the file system, such as the block size, the total number of bloc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: NT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ter File table grows, never shri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-tree algorithm used for file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“balances” file system tree when tre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ng or deleting a file can cause entire tree to change and can overwrite nodes that were marked as free but still had information i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attributes on files, can be confusing (e.g., which access time is the “official” one to u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useful attributes are MAC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ter File Table (M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has at least one entry in th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lock Group Descriptor T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a group descriptor data structure for every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group descriptor stores the address of block bitmap and inode bitmap for the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itm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block bitmap manages the allocation status of the block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inode bitmap manages the allocation status of the inode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25884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pe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125892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Des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>
            <a:off x="4214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4214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4214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8"/>
          <p:cNvSpPr/>
          <p:nvPr/>
        </p:nvSpPr>
        <p:spPr>
          <a:xfrm>
            <a:off x="4579920" y="4786200"/>
            <a:ext cx="546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9"/>
          <p:cNvSpPr/>
          <p:nvPr/>
        </p:nvSpPr>
        <p:spPr>
          <a:xfrm>
            <a:off x="3071880" y="2428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10"/>
          <p:cNvSpPr/>
          <p:nvPr/>
        </p:nvSpPr>
        <p:spPr>
          <a:xfrm>
            <a:off x="3071880" y="3857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字方塊 11"/>
          <p:cNvSpPr/>
          <p:nvPr/>
        </p:nvSpPr>
        <p:spPr>
          <a:xfrm>
            <a:off x="3071880" y="59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5357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6500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357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6500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5357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6"/>
          <p:cNvSpPr/>
          <p:nvPr/>
        </p:nvSpPr>
        <p:spPr>
          <a:xfrm>
            <a:off x="6500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7"/>
          <p:cNvCxnSpPr>
            <a:stCxn id="176" idx="3"/>
            <a:endCxn id="181" idx="1"/>
          </p:cNvCxnSpPr>
          <p:nvPr/>
        </p:nvCxnSpPr>
        <p:spPr>
          <a:xfrm flipV="1">
            <a:off x="2259000" y="2613960"/>
            <a:ext cx="813600" cy="142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Straight Arrow Connector 29"/>
          <p:cNvCxnSpPr>
            <a:stCxn id="176" idx="3"/>
            <a:endCxn id="182" idx="1"/>
          </p:cNvCxnSpPr>
          <p:nvPr/>
        </p:nvCxnSpPr>
        <p:spPr>
          <a:xfrm>
            <a:off x="2259000" y="4037040"/>
            <a:ext cx="81360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Straight Arrow Connector 31"/>
          <p:cNvCxnSpPr>
            <a:stCxn id="176" idx="3"/>
            <a:endCxn id="183" idx="1"/>
          </p:cNvCxnSpPr>
          <p:nvPr/>
        </p:nvCxnSpPr>
        <p:spPr>
          <a:xfrm>
            <a:off x="2259000" y="4037040"/>
            <a:ext cx="813600" cy="207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 contains the inodes that describes the files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inode corresponds to one file, and it stores file’s primary metadata, such as file’s size, ownership, and tempor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is typically 128 bytes in size and is allocated to each file and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ode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99960" y="2208240"/>
            <a:ext cx="83743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2125800"/>
            <a:ext cx="844884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non-directory file, Ext2 allocates an inode in the same block group as the parent dire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at group has no free inode or block, Ext2 uses a quadratic search (add powers of 2 to the current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quadratic search fails, Ext2 uses linear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directory, Ext2 tries to place it in a group that has not been used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sing total number of free inodes and blocks in the superblock, Ext2 calculates the average free inodes and blocks pe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xt2 searches each of the group and uses the first one whose free inodes and blocks are less than the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pervious search fails, the group with the smallest number of directories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520" y="2072880"/>
            <a:ext cx="84582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 Ext2 is just like a regular file except it has a special typ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content of directories is a list of directory entry data structure, which describes file name and inode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length of directory entry varies from 1 to 25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fields in the directory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ame length: the length of the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cord length: the length of this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rectory entry al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t2 starts at the beginning of the directory and examines each directory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alculate the actual record length and compare with the record length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f they are different, Ext2 can insert the new directory entry at the end of the current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lse, Ext2 appends the new entry to the end of the entry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file system journaling records updates to the file system can be recovered after a cr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modes of journal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nly metadata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ll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 in Ext3 is done at block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first block in the journal is journal superblock, and it contains the first logging data address and its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pdates are done in transactions, and each transaction has a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transaction starts with a descriptor block that contains the transaction sequence number and a list of what blocks are being upd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llowing the descriptor block are the updated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n the updates have been written to disk, a commit block is written with the same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3000" y="2303640"/>
            <a:ext cx="86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action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 and folder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arse points (used to link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rse fil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Y QUESTIONS 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arse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74840" y="2349360"/>
            <a:ext cx="8032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usters that contain all zeros aren’t written to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deleted sparse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file system metadata is deleted or corrupted, a sparse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69720" y="2419200"/>
            <a:ext cx="831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is broken into equal-sized compression units (e.g. 16 clus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ttempt is made to compress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s of a file may be compressed while other parts are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77920" y="2441520"/>
            <a:ext cx="854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ngle file can use different compression methods (e.g. none, sparse, or variant of LZ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very tools need to support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leted compressed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ile system metadata is deleted or corrupted, a compressed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crypting File System (EF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24000" y="2511360"/>
            <a:ext cx="848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both symmetric key encryption (DESX) and asymmetric key encryption (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es a single file encryption key (FEK) and encrypts file with FEK using DE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s FEK with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02:06Z</dcterms:created>
  <dc:creator>ML</dc:creator>
  <dc:description/>
  <dc:language>en-US</dc:language>
  <cp:lastModifiedBy>Ludwiniak, Robert</cp:lastModifiedBy>
  <cp:lastPrinted>2012-03-05T15:05:56Z</cp:lastPrinted>
  <dcterms:modified xsi:type="dcterms:W3CDTF">2012-03-12T16:47:34Z</dcterms:modified>
  <cp:revision>17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Edinburgh Napier Word document</vt:lpwstr>
  </property>
  <property fmtid="{D5CDD505-2E9C-101B-9397-08002B2CF9AE}" pid="3" name="Document Description">
    <vt:lpwstr>Branded powerpoint template for creating Edinburgh Napier University presentations.</vt:lpwstr>
  </property>
  <property fmtid="{D5CDD505-2E9C-101B-9397-08002B2CF9AE}" pid="4" name="DocumentKeywords">
    <vt:lpwstr>branded, presentations, template, powerpoint, ppt</vt:lpwstr>
  </property>
</Properties>
</file>