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D698B-BB7C-4CF1-BBFE-A83F2308DD6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AB4FC-B2BC-451D-8538-59F2C8E0F33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8930-BA78-4A9C-B19D-F595A042E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F12F-3397-48EB-B4AB-77B0B2506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E283-2879-4CC9-B389-69800667E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BABD-53E8-4268-B5EC-9B57684BF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9983-465E-45C6-A3A4-B7911EB87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9B35-C874-48B5-85BB-5095D9069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24BA-6DD3-4A9F-8F26-35AA19F66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E140-3D1C-41D1-A2FA-2D9341E32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657D-D5AB-4463-AD16-3313A1900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AAD0-9227-404E-8294-4ADF454D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F6D8-097C-497A-BD7F-302E90B0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722F-BD32-4961-9749-9CF3425A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C87F5-5342-4FAC-B917-28AF9518A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2-23T10:28:37Z</dcterms:modified>
  <cp:revision>49</cp:revision>
  <dc:subject/>
  <dc:title>スライド 1</dc:title>
</cp:coreProperties>
</file>