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AE3DC-45F6-4BE9-8470-5A213D012F6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4D8B2-95B5-442F-9B52-7750629B032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9050-95ED-4D09-8881-9CB83FABF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C01A-E285-48DA-AE93-2E6906A6A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1933-F236-4A20-A3B7-AA29AB065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DF46-708A-4A07-B512-38BDEFE90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3CA7-9BA4-4D45-9360-5A20A77D6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2F75-51A0-409A-8F9A-9E4F13C42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9E82-1DBE-4C59-99CA-37E0583CE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5F1F-E045-4E28-8B33-0909E1F6F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039C-BCFC-4B6D-8812-EAFE5FAF8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E4F3-FEAA-45BC-954E-5CA452811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59E1-0253-4F9A-88FB-A9066D29C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581D-506C-41C3-ABA1-A1FC659BD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C4628-FB2E-4BFA-B7BB-160D85E6F7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2-23T10:28:37Z</dcterms:modified>
  <cp:revision>49</cp:revision>
  <dc:subject/>
  <dc:title>スライド 1</dc:title>
</cp:coreProperties>
</file>