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3974-422A-4BEA-8B1D-BC1E09823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A726-5FB1-4765-925E-B2914BA2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1242-DAC2-4028-A592-F51A75A4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B391-F611-4831-A237-011973B6C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8445-E8F4-4D81-B1EB-457A3151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9A1A-812B-41DD-87F5-0ADCD13E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C616-8A51-42EA-8350-C1CF9D60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451C-1E61-457E-AA90-A0B71A14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75BF-1DFC-4E5E-B8A1-1A2AB422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AEBA-3495-4930-9CF1-3AC6F13A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7957-7DEE-486D-B4CB-049C0D9C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302F-5434-4062-8B25-5B8396AA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A223-62C1-4C92-A2A3-A1EE55759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3211560"/>
            <a:ext cx="1223640" cy="50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モード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68960" y="3967200"/>
            <a:ext cx="158400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20000" y="2924280"/>
            <a:ext cx="1584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消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5" idx="2"/>
            <a:endCxn id="41" idx="2"/>
          </p:cNvCxnSpPr>
          <p:nvPr/>
        </p:nvCxnSpPr>
        <p:spPr>
          <a:xfrm>
            <a:off x="314280" y="2644920"/>
            <a:ext cx="370440" cy="81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" name=""/>
          <p:cNvSpPr/>
          <p:nvPr/>
        </p:nvSpPr>
        <p:spPr>
          <a:xfrm>
            <a:off x="1440" y="22766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206064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8" idx="6"/>
            <a:endCxn id="43" idx="0"/>
          </p:cNvCxnSpPr>
          <p:nvPr/>
        </p:nvCxnSpPr>
        <p:spPr>
          <a:xfrm>
            <a:off x="5724360" y="1953360"/>
            <a:ext cx="2088360" cy="97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2195640" y="166212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字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5640" y="277956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英数字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0920" y="3932280"/>
            <a:ext cx="194328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ビットバイト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515772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漢字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1" idx="0"/>
            <a:endCxn id="49" idx="2"/>
          </p:cNvCxnSpPr>
          <p:nvPr/>
        </p:nvCxnSpPr>
        <p:spPr>
          <a:xfrm flipV="1">
            <a:off x="1296360" y="1950480"/>
            <a:ext cx="899640" cy="126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1" idx="7"/>
            <a:endCxn id="50" idx="2"/>
          </p:cNvCxnSpPr>
          <p:nvPr/>
        </p:nvCxnSpPr>
        <p:spPr>
          <a:xfrm flipV="1">
            <a:off x="1729080" y="3067920"/>
            <a:ext cx="466920" cy="21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1" idx="5"/>
            <a:endCxn id="51" idx="2"/>
          </p:cNvCxnSpPr>
          <p:nvPr/>
        </p:nvCxnSpPr>
        <p:spPr>
          <a:xfrm>
            <a:off x="1729080" y="3642480"/>
            <a:ext cx="322200" cy="57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1" idx="4"/>
            <a:endCxn id="52" idx="2"/>
          </p:cNvCxnSpPr>
          <p:nvPr/>
        </p:nvCxnSpPr>
        <p:spPr>
          <a:xfrm>
            <a:off x="1296360" y="3716280"/>
            <a:ext cx="899640" cy="173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76580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72000" y="362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7080" y="45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6"/>
            <a:endCxn id="48" idx="2"/>
          </p:cNvCxnSpPr>
          <p:nvPr/>
        </p:nvCxnSpPr>
        <p:spPr>
          <a:xfrm>
            <a:off x="3780000" y="1950480"/>
            <a:ext cx="360720" cy="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0" idx="6"/>
            <a:endCxn id="62" idx="2"/>
          </p:cNvCxnSpPr>
          <p:nvPr/>
        </p:nvCxnSpPr>
        <p:spPr>
          <a:xfrm flipV="1">
            <a:off x="3780000" y="3066120"/>
            <a:ext cx="338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6"/>
            <a:endCxn id="42" idx="2"/>
          </p:cNvCxnSpPr>
          <p:nvPr/>
        </p:nvCxnSpPr>
        <p:spPr>
          <a:xfrm flipV="1">
            <a:off x="3994200" y="4218840"/>
            <a:ext cx="375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2" idx="6"/>
            <a:endCxn id="65" idx="2"/>
          </p:cNvCxnSpPr>
          <p:nvPr/>
        </p:nvCxnSpPr>
        <p:spPr>
          <a:xfrm>
            <a:off x="3780000" y="5446080"/>
            <a:ext cx="530280" cy="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3" idx="6"/>
            <a:endCxn id="41" idx="1"/>
          </p:cNvCxnSpPr>
          <p:nvPr/>
        </p:nvCxnSpPr>
        <p:spPr>
          <a:xfrm flipH="1">
            <a:off x="863280" y="3175920"/>
            <a:ext cx="7741440" cy="109800"/>
          </a:xfrm>
          <a:prstGeom prst="curvedConnector4">
            <a:avLst>
              <a:gd name="adj1" fmla="val -9"/>
              <a:gd name="adj2" fmla="val -2934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611280" y="566100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終端コ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41" idx="3"/>
            <a:endCxn id="67" idx="1"/>
          </p:cNvCxnSpPr>
          <p:nvPr/>
        </p:nvCxnSpPr>
        <p:spPr>
          <a:xfrm flipH="1">
            <a:off x="843120" y="3642480"/>
            <a:ext cx="20520" cy="210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901800" y="486900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66160" y="141300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|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10520" y="25653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|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1701720"/>
            <a:ext cx="158400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18040" y="2814480"/>
            <a:ext cx="1584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09920" y="5203800"/>
            <a:ext cx="1584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53440" y="37162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|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2160" y="50133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|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62" idx="6"/>
            <a:endCxn id="43" idx="1"/>
          </p:cNvCxnSpPr>
          <p:nvPr/>
        </p:nvCxnSpPr>
        <p:spPr>
          <a:xfrm flipV="1">
            <a:off x="5702400" y="2997720"/>
            <a:ext cx="1549800" cy="6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42" idx="6"/>
            <a:endCxn id="43" idx="3"/>
          </p:cNvCxnSpPr>
          <p:nvPr/>
        </p:nvCxnSpPr>
        <p:spPr>
          <a:xfrm flipV="1">
            <a:off x="5952960" y="3354120"/>
            <a:ext cx="1299240" cy="86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6"/>
            <a:endCxn id="43" idx="4"/>
          </p:cNvCxnSpPr>
          <p:nvPr/>
        </p:nvCxnSpPr>
        <p:spPr>
          <a:xfrm flipV="1">
            <a:off x="5894280" y="3427560"/>
            <a:ext cx="1918440" cy="2028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5715000" y="1700280"/>
            <a:ext cx="306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0*(n/3) + 4*((n-3)%3) + 7*((n-4)%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84280" y="256392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1*(n/2) + 6*((n-2)%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87240" y="342900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*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14520" y="44370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*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03:19:37Z</dcterms:created>
  <dc:creator>Yusuke Yanbe</dc:creator>
  <dc:description/>
  <dc:language>en-US</dc:language>
  <cp:lastModifiedBy>Yusuke Yanbe</cp:lastModifiedBy>
  <dcterms:modified xsi:type="dcterms:W3CDTF">2006-10-15T03:43:39Z</dcterms:modified>
  <cp:revision>5</cp:revision>
  <dc:subject/>
  <dc:title>スライド 1</dc:title>
</cp:coreProperties>
</file>