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35E6-BD8F-4DA6-9891-59F68DC97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51E1-5846-49BB-AD42-7F0F46E4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1BEC-5212-4523-80A7-E2FA2BE68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1CD4-C94B-48C2-A30F-3128CBE1C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70B6-183D-48B5-83B0-3CA4EEDD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EECB-2BC8-482A-8504-2AA879AC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A254-3786-4417-9B28-2292BBBA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98F6-D804-41EB-A04B-44A0E62E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8713-C4ED-4F44-9B6C-2589D564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C841-85D9-4320-842E-4F632F15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75CE-4659-4B1A-8761-9AEE9360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CCC2-6E3B-44AF-AB2C-356F46F6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C16E-D769-4B4E-826B-3FBCE643C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3880" y="71280"/>
            <a:ext cx="7896240" cy="6715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71640" y="1044720"/>
            <a:ext cx="6480000" cy="495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549360"/>
            <a:ext cx="1439640" cy="495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1539720"/>
            <a:ext cx="2700360" cy="202428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7000" y="1539720"/>
            <a:ext cx="3644640" cy="202428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1640" y="3654360"/>
            <a:ext cx="6480000" cy="297036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497720" y="1852560"/>
            <a:ext cx="719280" cy="58572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97720" y="2484360"/>
            <a:ext cx="719280" cy="49536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2480" y="511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3640" y="1044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4800" y="1590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6120" y="3789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59240" y="1593720"/>
            <a:ext cx="311760" cy="368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29240" y="17762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29240" y="2484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6T11:23:30Z</dcterms:created>
  <dc:creator>Toru Furukawa</dc:creator>
  <dc:description/>
  <dc:language>en-US</dc:language>
  <cp:lastModifiedBy>Toru Furukawa</cp:lastModifiedBy>
  <dcterms:modified xsi:type="dcterms:W3CDTF">2007-05-26T11:49:05Z</dcterms:modified>
  <cp:revision>2</cp:revision>
  <dc:subject/>
  <dc:title>スライド 1</dc:title>
</cp:coreProperties>
</file>