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81EBC-FCFA-4C88-8554-0CA9CF9D47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DA2C0-F1B1-4BD6-B30C-2483D8B0CB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38F55-1D50-42EE-8398-C1D43D0139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E7676-E7C5-4032-847E-AD4C0CE28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65967-97DF-4F1B-83E6-6E110CEE4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4E592-9D1A-41AF-9CD6-A4C5EA86EF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18DD7-4915-4234-95E1-FB8B3A4D8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1E2C8-AAC4-4312-9FC3-EA6B44001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68429-4FA6-47A4-9E53-6B4D79126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1FA09-7B3F-41B3-928C-626EAEF0FE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3EF5F-9C1D-40E2-9A59-50B9DD4C29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8A258-20C1-4D53-82CE-79704BD8F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E22131-670E-48A7-BE24-9EBFA16855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ample Powerpoint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reated with Microsof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werpoint X for Ma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rvice Release 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14T17:33:12Z</dcterms:created>
  <dc:creator>Keith Bennett</dc:creator>
  <dc:description/>
  <dc:language>en-US</dc:language>
  <cp:lastModifiedBy>Keith Bennett</cp:lastModifiedBy>
  <dcterms:modified xsi:type="dcterms:W3CDTF">2007-09-14T19:16:39Z</dcterms:modified>
  <cp:revision>1</cp:revision>
  <dc:subject/>
  <dc:title>Sample Powerpoint Slide</dc:title>
</cp:coreProperties>
</file>